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35763" cy="9871075"/>
  <p:custShowLst>
    <p:custShow name="Full" id="0">
      <p:sldLst>
        <p:sld r:id="rId4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224D-4574-411C-B937-016611655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73216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84120" y="3442680"/>
            <a:ext cx="73216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6319-E10B-4188-BA07-3EAB52746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568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84120" y="344268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5680" y="344268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E0FE-E944-4B66-BEE7-1360AEC01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59480" y="147492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5200" y="147492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84120" y="344268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59480" y="344268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5200" y="344268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4132-31F6-403D-93D9-B0DCDAC46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84120" y="1474920"/>
            <a:ext cx="7321680" cy="37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7321680" cy="37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3572640" cy="37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5680" y="1474920"/>
            <a:ext cx="3572640" cy="37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8840" y="295200"/>
            <a:ext cx="7724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5680" y="1474920"/>
            <a:ext cx="3572640" cy="37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84120" y="344268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84120" y="1474920"/>
            <a:ext cx="7321680" cy="37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27CD6-0AA3-43C7-9674-C47939D07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3572640" cy="37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568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5680" y="344268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568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84120" y="3442680"/>
            <a:ext cx="73216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73216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84120" y="3442680"/>
            <a:ext cx="73216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568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84120" y="344268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5680" y="344268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59480" y="147492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35200" y="147492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84120" y="344268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59480" y="344268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35200" y="3442680"/>
            <a:ext cx="23572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7321680" cy="37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696B-B498-4FA9-A1D2-2FCD780A7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3572640" cy="37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5680" y="1474920"/>
            <a:ext cx="3572640" cy="37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5642F-E852-4941-BCA6-A670E77E0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70D5-8F5F-42F4-B35C-44E916F12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88840" y="295200"/>
            <a:ext cx="7724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F4F6-0F79-43C2-94E9-FC4FD8299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5680" y="1474920"/>
            <a:ext cx="3572640" cy="37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4120" y="344268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CCDE-71C1-4CFA-B68E-4A708B7CE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3572640" cy="37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568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5680" y="344268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DE27-5F55-4DDA-83DE-644B45A45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5680" y="1474920"/>
            <a:ext cx="357264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84120" y="3442680"/>
            <a:ext cx="7321680" cy="17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CE34-10D3-4C88-8CEB-A7CB13EE7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79400" y="6365880"/>
            <a:ext cx="33228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220240" y="6095880"/>
            <a:ext cx="712800" cy="596880"/>
            <a:chOff x="8220240" y="6095880"/>
            <a:chExt cx="712800" cy="596880"/>
          </a:xfrm>
        </p:grpSpPr>
        <p:sp>
          <p:nvSpPr>
            <p:cNvPr id="2" name=""/>
            <p:cNvSpPr/>
            <p:nvPr/>
          </p:nvSpPr>
          <p:spPr>
            <a:xfrm>
              <a:off x="8514000" y="6288120"/>
              <a:ext cx="419040" cy="4046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220240" y="6095880"/>
              <a:ext cx="419040" cy="405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1284120" y="1474920"/>
            <a:ext cx="7321680" cy="37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lnSpc>
                <a:spcPct val="90000"/>
              </a:lnSpc>
              <a:spcBef>
                <a:spcPts val="1800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31840">
              <a:lnSpc>
                <a:spcPct val="90000"/>
              </a:lnSpc>
              <a:spcBef>
                <a:spcPts val="1800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7560" indent="-172800">
              <a:lnSpc>
                <a:spcPct val="90000"/>
              </a:lnSpc>
              <a:spcBef>
                <a:spcPts val="1800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7560" indent="-1728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7560" indent="-1728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441360"/>
            <a:ext cx="746280" cy="352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52280" y="500040"/>
            <a:ext cx="584280" cy="2919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72240" y="2149560"/>
            <a:ext cx="3371760" cy="470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72240" y="2149560"/>
            <a:ext cx="3371760" cy="4708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01720" y="1947960"/>
            <a:ext cx="52686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66ff"/>
              </a:solidFill>
              <a:latin typeface="Arial Narrow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184400" y="2852640"/>
            <a:ext cx="7619760" cy="952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 algn="ctr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31840" algn="ctr">
              <a:spcBef>
                <a:spcPts val="675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17560" indent="-172800" algn="ctr">
              <a:spcBef>
                <a:spcPts val="675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17560" indent="-172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17560" indent="-172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assport.com/Consumer/Default.asp?PPlcid=1033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bcentral.com/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lc7.law5.hotmail.passport.com/cgi-bin/login?_lang=EN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9810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cc00"/>
                </a:solidFill>
                <a:latin typeface="Times New Roman"/>
              </a:rPr>
              <a:t>Context and Remoting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429000"/>
            <a:ext cx="5790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odule Subtit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"/>
          <p:cNvSpPr/>
          <p:nvPr/>
        </p:nvSpPr>
        <p:spPr>
          <a:xfrm>
            <a:off x="2498760" y="4303800"/>
            <a:ext cx="481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962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ilding distributed applications and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lementing attribute-driven behavior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th Microsoft .N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The Remoting Context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221840"/>
            <a:ext cx="73216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d from COM+ context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: Remoting Context != COM+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loses objects with same functional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s shared properties that describ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52280" y="3781440"/>
            <a:ext cx="3962160" cy="2847600"/>
            <a:chOff x="152280" y="3781440"/>
            <a:chExt cx="3962160" cy="2847600"/>
          </a:xfrm>
        </p:grpSpPr>
        <p:sp>
          <p:nvSpPr>
            <p:cNvPr id="172" name=""/>
            <p:cNvSpPr/>
            <p:nvPr/>
          </p:nvSpPr>
          <p:spPr>
            <a:xfrm>
              <a:off x="1452240" y="3781440"/>
              <a:ext cx="2662200" cy="2600280"/>
            </a:xfrm>
            <a:prstGeom prst="flowChartAlternateProcess">
              <a:avLst/>
            </a:prstGeom>
            <a:solidFill>
              <a:srgbClr val="618ff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23760" y="6133680"/>
              <a:ext cx="556920" cy="495360"/>
            </a:xfrm>
            <a:prstGeom prst="flowChartConnector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RqTx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04880" y="6133680"/>
              <a:ext cx="556920" cy="495360"/>
            </a:xfrm>
            <a:prstGeom prst="flowChartConnector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Sync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86000" y="6133680"/>
              <a:ext cx="556920" cy="495360"/>
            </a:xfrm>
            <a:prstGeom prst="flowChartConnector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Thrd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90680" y="4524120"/>
              <a:ext cx="123480" cy="1114200"/>
            </a:xfrm>
            <a:prstGeom prst="rect">
              <a:avLst/>
            </a:prstGeom>
            <a:solidFill>
              <a:srgbClr val="a5002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280" y="4276440"/>
              <a:ext cx="928440" cy="681120"/>
            </a:xfrm>
            <a:prstGeom prst="wedgeRectCallout">
              <a:avLst>
                <a:gd name="adj1" fmla="val 91666"/>
                <a:gd name="adj2" fmla="val 81439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remoting boundary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2071440" y="4152600"/>
              <a:ext cx="990360" cy="680760"/>
              <a:chOff x="2071440" y="4152600"/>
              <a:chExt cx="990360" cy="680760"/>
            </a:xfrm>
          </p:grpSpPr>
          <p:sp>
            <p:nvSpPr>
              <p:cNvPr id="179" name=""/>
              <p:cNvSpPr/>
              <p:nvPr/>
            </p:nvSpPr>
            <p:spPr>
              <a:xfrm>
                <a:off x="2368440" y="4152600"/>
                <a:ext cx="693360" cy="680760"/>
              </a:xfrm>
              <a:prstGeom prst="flowChartProcess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Object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71440" y="4196160"/>
                <a:ext cx="148320" cy="156960"/>
              </a:xfrm>
              <a:prstGeom prst="flowChartDecision">
                <a:avLst/>
              </a:prstGeom>
              <a:solidFill>
                <a:srgbClr val="ffcc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219760" y="4283640"/>
                <a:ext cx="14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71440" y="4414320"/>
                <a:ext cx="148320" cy="156960"/>
              </a:xfrm>
              <a:prstGeom prst="flowChartDecision">
                <a:avLst/>
              </a:prstGeom>
              <a:solidFill>
                <a:srgbClr val="ffcc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2219760" y="4501440"/>
                <a:ext cx="14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814480" y="5019480"/>
              <a:ext cx="990360" cy="681120"/>
              <a:chOff x="2814480" y="5019480"/>
              <a:chExt cx="990360" cy="681120"/>
            </a:xfrm>
          </p:grpSpPr>
          <p:sp>
            <p:nvSpPr>
              <p:cNvPr id="185" name=""/>
              <p:cNvSpPr/>
              <p:nvPr/>
            </p:nvSpPr>
            <p:spPr>
              <a:xfrm>
                <a:off x="3111480" y="5019480"/>
                <a:ext cx="693360" cy="681120"/>
              </a:xfrm>
              <a:prstGeom prst="flowChartProcess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Object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814480" y="5063040"/>
                <a:ext cx="148320" cy="156960"/>
              </a:xfrm>
              <a:prstGeom prst="flowChartDecision">
                <a:avLst/>
              </a:prstGeom>
              <a:solidFill>
                <a:srgbClr val="ffcc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962800" y="5150520"/>
                <a:ext cx="14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814480" y="5281560"/>
                <a:ext cx="148320" cy="156960"/>
              </a:xfrm>
              <a:prstGeom prst="flowChartDecision">
                <a:avLst/>
              </a:prstGeom>
              <a:solidFill>
                <a:srgbClr val="ffcc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2962800" y="5368680"/>
                <a:ext cx="14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1699920" y="5205240"/>
              <a:ext cx="990360" cy="681120"/>
              <a:chOff x="1699920" y="5205240"/>
              <a:chExt cx="990360" cy="681120"/>
            </a:xfrm>
          </p:grpSpPr>
          <p:sp>
            <p:nvSpPr>
              <p:cNvPr id="191" name=""/>
              <p:cNvSpPr/>
              <p:nvPr/>
            </p:nvSpPr>
            <p:spPr>
              <a:xfrm>
                <a:off x="1996920" y="5205240"/>
                <a:ext cx="693360" cy="681120"/>
              </a:xfrm>
              <a:prstGeom prst="flowChartProcess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Object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699920" y="5248800"/>
                <a:ext cx="148320" cy="156960"/>
              </a:xfrm>
              <a:prstGeom prst="flowChartDecision">
                <a:avLst/>
              </a:prstGeom>
              <a:solidFill>
                <a:srgbClr val="ffcc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1848240" y="5336280"/>
                <a:ext cx="14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699920" y="5467320"/>
                <a:ext cx="148320" cy="156960"/>
              </a:xfrm>
              <a:prstGeom prst="flowChartDecision">
                <a:avLst/>
              </a:prstGeom>
              <a:solidFill>
                <a:srgbClr val="ffcc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1848240" y="5554440"/>
                <a:ext cx="14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5548320" y="4876920"/>
            <a:ext cx="131760" cy="1172880"/>
          </a:xfrm>
          <a:prstGeom prst="rect">
            <a:avLst/>
          </a:prstGeom>
          <a:solidFill>
            <a:srgbClr val="a5002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705120"/>
            <a:ext cx="4038480" cy="2800440"/>
          </a:xfrm>
          <a:prstGeom prst="rect">
            <a:avLst/>
          </a:prstGeom>
          <a:solidFill>
            <a:srgbClr val="618ffd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ppDomai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4832280" y="4160880"/>
            <a:ext cx="1629000" cy="1888920"/>
          </a:xfrm>
          <a:custGeom>
            <a:avLst/>
            <a:gdLst>
              <a:gd name="textAreaLeft" fmla="*/ 79200 w 1629000"/>
              <a:gd name="textAreaRight" fmla="*/ 1549800 w 1629000"/>
              <a:gd name="textAreaTop" fmla="*/ 79200 h 1888920"/>
              <a:gd name="textAreaBottom" fmla="*/ 1809720 h 1888920"/>
            </a:gdLst>
            <a:ahLst/>
            <a:rect l="textAreaLeft" t="textAreaTop" r="textAreaRight" b="textAreaBottom"/>
            <a:pathLst>
              <a:path w="21600" h="25046">
                <a:moveTo>
                  <a:pt x="3600" y="0"/>
                </a:moveTo>
                <a:arcTo wR="3600" hR="3600" stAng="16200000" swAng="-5400000"/>
                <a:lnTo>
                  <a:pt x="0" y="21446"/>
                </a:lnTo>
                <a:arcTo wR="3600" hR="3600" stAng="10800000" swAng="-5400000"/>
                <a:lnTo>
                  <a:pt x="18000" y="25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ontex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"/>
          <p:cNvSpPr/>
          <p:nvPr/>
        </p:nvSpPr>
        <p:spPr>
          <a:xfrm>
            <a:off x="6656400" y="4160880"/>
            <a:ext cx="1628640" cy="1888920"/>
          </a:xfrm>
          <a:custGeom>
            <a:avLst/>
            <a:gdLst>
              <a:gd name="textAreaLeft" fmla="*/ 79200 w 1628640"/>
              <a:gd name="textAreaRight" fmla="*/ 1549440 w 1628640"/>
              <a:gd name="textAreaTop" fmla="*/ 79200 h 1888920"/>
              <a:gd name="textAreaBottom" fmla="*/ 1809720 h 1888920"/>
            </a:gdLst>
            <a:ahLst/>
            <a:rect l="textAreaLeft" t="textAreaTop" r="textAreaRight" b="textAreaBottom"/>
            <a:pathLst>
              <a:path w="21600" h="25051">
                <a:moveTo>
                  <a:pt x="3600" y="0"/>
                </a:moveTo>
                <a:arcTo wR="3600" hR="3600" stAng="16200000" swAng="-5400000"/>
                <a:lnTo>
                  <a:pt x="0" y="21451"/>
                </a:lnTo>
                <a:arcTo wR="3600" hR="3600" stAng="10800000" swAng="-5400000"/>
                <a:lnTo>
                  <a:pt x="18000" y="25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ontex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5288040" y="4616280"/>
            <a:ext cx="717480" cy="52236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"/>
          <p:cNvSpPr/>
          <p:nvPr/>
        </p:nvSpPr>
        <p:spPr>
          <a:xfrm>
            <a:off x="7112160" y="4616280"/>
            <a:ext cx="717480" cy="52236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>
            <a:off x="5483160" y="5268960"/>
            <a:ext cx="717480" cy="52056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7176960" y="5305320"/>
            <a:ext cx="717840" cy="52092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04" name=""/>
          <p:cNvCxnSpPr>
            <a:stCxn id="200" idx="1"/>
            <a:endCxn id="202" idx="1"/>
          </p:cNvCxnSpPr>
          <p:nvPr/>
        </p:nvCxnSpPr>
        <p:spPr>
          <a:xfrm flipH="1" flipV="1" rot="10800000">
            <a:off x="5263920" y="4876560"/>
            <a:ext cx="195840" cy="653040"/>
          </a:xfrm>
          <a:prstGeom prst="curvedConnector5">
            <a:avLst>
              <a:gd name="adj1" fmla="val -87476"/>
              <a:gd name="adj2" fmla="val 49972"/>
              <a:gd name="adj3" fmla="val -87476"/>
            </a:avLst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205" name=""/>
          <p:cNvCxnSpPr>
            <a:stCxn id="201" idx="3"/>
            <a:endCxn id="203" idx="1"/>
          </p:cNvCxnSpPr>
          <p:nvPr/>
        </p:nvCxnSpPr>
        <p:spPr>
          <a:xfrm flipH="1">
            <a:off x="7147800" y="4878000"/>
            <a:ext cx="710280" cy="687960"/>
          </a:xfrm>
          <a:prstGeom prst="curvedConnector5">
            <a:avLst>
              <a:gd name="adj1" fmla="val -28144"/>
              <a:gd name="adj2" fmla="val 24921"/>
              <a:gd name="adj3" fmla="val -28144"/>
            </a:avLst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206" name=""/>
          <p:cNvCxnSpPr>
            <a:stCxn id="200" idx="3"/>
            <a:endCxn id="201" idx="1"/>
          </p:cNvCxnSpPr>
          <p:nvPr/>
        </p:nvCxnSpPr>
        <p:spPr>
          <a:xfrm>
            <a:off x="6028920" y="4876560"/>
            <a:ext cx="1059480" cy="1080"/>
          </a:xfrm>
          <a:prstGeom prst="bentConnector2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373800" y="4746600"/>
            <a:ext cx="390600" cy="260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181480" y="5915160"/>
            <a:ext cx="228600" cy="228600"/>
          </a:xfrm>
          <a:prstGeom prst="flowChartConnector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5486400" y="5915160"/>
            <a:ext cx="228600" cy="228600"/>
          </a:xfrm>
          <a:prstGeom prst="flowChartConnector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5915160"/>
            <a:ext cx="228600" cy="228600"/>
          </a:xfrm>
          <a:prstGeom prst="flowChartConnector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7086600" y="5915160"/>
            <a:ext cx="228600" cy="228600"/>
          </a:xfrm>
          <a:prstGeom prst="flowChartConnector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"/>
          <p:cNvSpPr/>
          <p:nvPr/>
        </p:nvSpPr>
        <p:spPr>
          <a:xfrm>
            <a:off x="7391520" y="5915160"/>
            <a:ext cx="228600" cy="228600"/>
          </a:xfrm>
          <a:prstGeom prst="flowChartConnector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7696080" y="5915160"/>
            <a:ext cx="228600" cy="228600"/>
          </a:xfrm>
          <a:prstGeom prst="flowChartConnector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  <a:ea typeface="Times New Roman"/>
              </a:rPr>
              <a:t>What is “Remote”, What is” Local”?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39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Local" are all objects within the same App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ther objects are "Remot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objects in the same proces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-bound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Local" if they share the same 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Remote" if they are in different contex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Local": Not marshaled, immediate object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Remote": Marshaled, calls through prox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ection 2: Remoting Architecture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265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: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: Forma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ling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What to communicate: Message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474560"/>
            <a:ext cx="7478640" cy="385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s are objects that implement I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essage: Simple dictionary of key/values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NET Message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ion call messages, response mess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call messages, response mess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cation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chronous: Request with immediate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: Request with delayed or no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181480" y="4876920"/>
            <a:ext cx="2057400" cy="175248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>
            <a:off x="6553080" y="5486400"/>
            <a:ext cx="533520" cy="533520"/>
          </a:xfrm>
          <a:prstGeom prst="rect">
            <a:avLst/>
          </a:prstGeom>
          <a:solidFill>
            <a:srgbClr val="a50021">
              <a:alpha val="50000"/>
            </a:srgbClr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  <a:ea typeface="Arial"/>
              </a:rPr>
              <a:t>Where to communicate: Channel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131480"/>
            <a:ext cx="7726320" cy="35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nnels transport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uilt-in channels: TCP, HT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endpoint-to-endpoin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nnels can listen for and send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isten: IChannelReceiver, Send: IChannelSen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kes no assumptions about endpoint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 implement channel sinks for logging, int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4876920"/>
            <a:ext cx="1904760" cy="167616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4800600"/>
            <a:ext cx="2209680" cy="1905120"/>
          </a:xfrm>
          <a:prstGeom prst="rightArrow">
            <a:avLst>
              <a:gd name="adj1" fmla="val 50000"/>
              <a:gd name="adj2" fmla="val 48886"/>
            </a:avLst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886200" y="5562720"/>
            <a:ext cx="457200" cy="3031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514600" y="5486400"/>
            <a:ext cx="76212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"Proxy"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5486400"/>
            <a:ext cx="304920" cy="533520"/>
          </a:xfrm>
          <a:prstGeom prst="rect">
            <a:avLst/>
          </a:prstGeom>
          <a:solidFill>
            <a:srgbClr val="a50021">
              <a:alpha val="50000"/>
            </a:srgbClr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2133720" y="5753160"/>
            <a:ext cx="380880" cy="144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5410080" y="5486400"/>
            <a:ext cx="76212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s-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ch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574056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How to communicate: Formatter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321680" cy="285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ters serialize .NET objects into wire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dynamically by channel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guration-file based association with chann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ormatters are implemented as channel s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: SOAP and Binary Forma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ystem.Runtime.Remoting.Serialization.For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676520" y="4286160"/>
            <a:ext cx="5866920" cy="2285640"/>
            <a:chOff x="1676520" y="4286160"/>
            <a:chExt cx="5866920" cy="2285640"/>
          </a:xfrm>
        </p:grpSpPr>
        <p:sp>
          <p:nvSpPr>
            <p:cNvPr id="235" name=""/>
            <p:cNvSpPr/>
            <p:nvPr/>
          </p:nvSpPr>
          <p:spPr>
            <a:xfrm>
              <a:off x="1676520" y="4714920"/>
              <a:ext cx="533160" cy="1485720"/>
            </a:xfrm>
            <a:prstGeom prst="rect">
              <a:avLst/>
            </a:prstGeom>
            <a:solidFill>
              <a:srgbClr val="618ff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0280" y="4800240"/>
              <a:ext cx="533160" cy="1314360"/>
            </a:xfrm>
            <a:prstGeom prst="rect">
              <a:avLst/>
            </a:prstGeom>
            <a:solidFill>
              <a:srgbClr val="618ff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02320" y="4400640"/>
              <a:ext cx="5393160" cy="2114280"/>
            </a:xfrm>
            <a:prstGeom prst="rightArrow">
              <a:avLst>
                <a:gd name="adj1" fmla="val 51750"/>
                <a:gd name="adj2" fmla="val 80327"/>
              </a:avLst>
            </a:prstGeom>
            <a:solidFill>
              <a:srgbClr val="ffffff"/>
            </a:solidFill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2328120" y="5287320"/>
              <a:ext cx="592560" cy="34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6141240" y="5293440"/>
              <a:ext cx="572760" cy="32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913400" y="5143320"/>
              <a:ext cx="236520" cy="628560"/>
            </a:xfrm>
            <a:prstGeom prst="flowChartProcess">
              <a:avLst/>
            </a:prstGeom>
            <a:solidFill>
              <a:srgbClr val="a50021"/>
            </a:solidFill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17320" y="5200560"/>
              <a:ext cx="592560" cy="514080"/>
            </a:xfrm>
            <a:prstGeom prst="flowChartExtra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95000" y="5171760"/>
              <a:ext cx="651960" cy="571320"/>
            </a:xfrm>
            <a:prstGeom prst="flowChartMerg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21040" y="5457960"/>
              <a:ext cx="41472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69480" y="5457960"/>
              <a:ext cx="65160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420000">
              <a:off x="3974040" y="4942080"/>
              <a:ext cx="703440" cy="1032120"/>
            </a:xfrm>
            <a:prstGeom prst="lightningBol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69080" y="6114960"/>
              <a:ext cx="1422360" cy="456840"/>
            </a:xfrm>
            <a:prstGeom prst="wedgeRectCallout">
              <a:avLst>
                <a:gd name="adj1" fmla="val 34462"/>
                <a:gd name="adj2" fmla="val -15390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code into wire format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87720" y="4286160"/>
              <a:ext cx="1422360" cy="457200"/>
            </a:xfrm>
            <a:prstGeom prst="wedgeRectCallout">
              <a:avLst>
                <a:gd name="adj1" fmla="val 38106"/>
                <a:gd name="adj2" fmla="val 16458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code from wire format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87520" y="4286160"/>
              <a:ext cx="1422360" cy="457200"/>
            </a:xfrm>
            <a:prstGeom prst="wedgeRectCallout">
              <a:avLst>
                <a:gd name="adj1" fmla="val 65018"/>
                <a:gd name="adj2" fmla="val 19921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AP, Binary, Custom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electing Channels: TcpChannel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497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.Runtime.Remoting.Channels.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lain TCP s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s compact, binary wir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default, serialized by the BinaryFor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NET native wire-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custom formatters for other wire-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choice for LAN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Uses permanent socket conn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commended for Interne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electing Channels: HttpChannel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497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.Runtime.Remoting.Channels.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HTTP 1.1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s SOAP 1.1 XML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ialized by SoapFor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 stand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s for W3C SOAP/XMLP Protocol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custom formatters for other wire-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choice for Interne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ateless protocol, scales 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choice for interoperability and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electing Channels: Custom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74560"/>
            <a:ext cx="7321680" cy="241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 your own Protocol (APPC,IPX,Pipes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 any format that 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use SoapFormatter or BinaryFor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bring your own formatter: IIOP, RMI, ORPC,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s to integration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The Message Box: IMessageSink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321320" cy="327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Sinks are the .NET message drop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by channels to accept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by context properties for int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building chains of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linked list through NextSink prope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sages can be intercepted, modified or processed anywhere in the ch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76520" y="4800600"/>
            <a:ext cx="3352680" cy="167652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"/>
          <p:cNvSpPr/>
          <p:nvPr/>
        </p:nvSpPr>
        <p:spPr>
          <a:xfrm>
            <a:off x="5334120" y="4648320"/>
            <a:ext cx="2209680" cy="2057400"/>
          </a:xfrm>
          <a:prstGeom prst="rightArrow">
            <a:avLst>
              <a:gd name="adj1" fmla="val 50000"/>
              <a:gd name="adj2" fmla="val 45268"/>
            </a:avLst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943600" y="5486400"/>
            <a:ext cx="457200" cy="303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514600" y="5410080"/>
            <a:ext cx="76212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"Proxy"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"/>
          <p:cNvSpPr/>
          <p:nvPr/>
        </p:nvSpPr>
        <p:spPr>
          <a:xfrm>
            <a:off x="1828800" y="5410080"/>
            <a:ext cx="304920" cy="533520"/>
          </a:xfrm>
          <a:prstGeom prst="rect">
            <a:avLst/>
          </a:prstGeom>
          <a:solidFill>
            <a:srgbClr val="cecece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5676840"/>
            <a:ext cx="380880" cy="180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"/>
          <p:cNvSpPr/>
          <p:nvPr/>
        </p:nvSpPr>
        <p:spPr>
          <a:xfrm>
            <a:off x="4038480" y="5410080"/>
            <a:ext cx="160020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MessageSink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5638680"/>
            <a:ext cx="7617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6095880"/>
            <a:ext cx="3429000" cy="609840"/>
          </a:xfrm>
          <a:prstGeom prst="wedgeRoundRectCallout">
            <a:avLst>
              <a:gd name="adj1" fmla="val 35138"/>
              <a:gd name="adj2" fmla="val -85939"/>
              <a:gd name="adj3" fmla="val 1666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nchProcessMessage(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r AsynchProcessMessage(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Objective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474920"/>
            <a:ext cx="7767720" cy="186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the .NET Remoting core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the extensibility mechanis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ilable on the transport lev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ilable through the Remoting 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Objects To Go: Marshaling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321320" cy="474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Packaging Data for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objects passed as arguments, return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l-By-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ire object is packaged as-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y is transferred to dest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ink between copy and orig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l-By-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 reference to an object is packag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erence is transferred to dest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Proxy" object links destination with orig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oncepts: Agile and Contextful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484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l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ependent of 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led directly from any AppDomain or 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use chann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bound Clas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between AppDomains, marsha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Domain-Bound Clas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 in a single AppDomain, marshal-by-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fu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und to AppDomai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shal-by-reference outside of 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Objects calling Objects: Proxie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321680" cy="46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Proxy"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that acts locally on behalf of a remote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s like and accepts calls as if it were "real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wards them to the remote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Prox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herit System.Runtime.Remoting.RealProx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he communication layer for transparent prox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t Prox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t dynamically through RealProx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ct pass-through mirror of the remote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76520" y="1219320"/>
            <a:ext cx="3352680" cy="167616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429000"/>
            <a:ext cx="5638680" cy="3124080"/>
          </a:xfrm>
          <a:prstGeom prst="wedgeRectCallout">
            <a:avLst>
              <a:gd name="adj1" fmla="val -12638"/>
              <a:gd name="adj2" fmla="val -817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"/>
          <p:cNvSpPr/>
          <p:nvPr/>
        </p:nvSpPr>
        <p:spPr>
          <a:xfrm flipH="1" rot="2263200">
            <a:off x="2869560" y="3733920"/>
            <a:ext cx="2387520" cy="761760"/>
          </a:xfrm>
          <a:custGeom>
            <a:avLst/>
            <a:gdLst>
              <a:gd name="textAreaLeft" fmla="*/ 412560 w 2387520"/>
              <a:gd name="textAreaRight" fmla="*/ 1763640 w 238752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59" hR="21600" stAng="10800000" swAng="5400000"/>
                <a:lnTo>
                  <a:pt x="12221" y="0"/>
                </a:lnTo>
                <a:arcTo wR="7459" hR="21600" stAng="-5400000" swAng="1658900"/>
                <a:lnTo>
                  <a:pt x="20369" y="9712"/>
                </a:lnTo>
                <a:lnTo>
                  <a:pt x="17299" y="21600"/>
                </a:lnTo>
                <a:lnTo>
                  <a:pt x="11767" y="9712"/>
                </a:lnTo>
                <a:lnTo>
                  <a:pt x="13687" y="9712"/>
                </a:lnTo>
                <a:arcTo wR="7459" hR="21600" stAng="-3741100" swAng="-1260822"/>
                <a:lnTo>
                  <a:pt x="9840" y="1130"/>
                </a:lnTo>
                <a:arcTo wR="7459" hR="21600" stAng="-5798079" swAng="-5001921"/>
                <a:close/>
              </a:path>
              <a:path fill="darkenLess" w="21600" h="21600">
                <a:moveTo>
                  <a:pt x="0" y="21600"/>
                </a:moveTo>
                <a:arcTo wR="7459" hR="21600" stAng="10800000" swAng="5400000"/>
                <a:lnTo>
                  <a:pt x="7459" y="0"/>
                </a:lnTo>
                <a:arcTo wR="7459" hR="21600" stAng="-5400000" swAng="398079"/>
                <a:lnTo>
                  <a:pt x="9840" y="1130"/>
                </a:lnTo>
                <a:arcTo wR="7459" hR="21600" stAng="-5798079" swAng="-5001921"/>
                <a:close/>
              </a:path>
            </a:pathLst>
          </a:cu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"/>
          <p:cNvSpPr/>
          <p:nvPr/>
        </p:nvSpPr>
        <p:spPr>
          <a:xfrm>
            <a:off x="7086600" y="1219320"/>
            <a:ext cx="1066680" cy="175248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"/>
          <p:cNvSpPr/>
          <p:nvPr/>
        </p:nvSpPr>
        <p:spPr>
          <a:xfrm>
            <a:off x="7391520" y="1828800"/>
            <a:ext cx="533160" cy="533520"/>
          </a:xfrm>
          <a:prstGeom prst="rect">
            <a:avLst/>
          </a:prstGeom>
          <a:solidFill>
            <a:srgbClr val="cecece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Proxies illustrated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78" name=""/>
          <p:cNvSpPr/>
          <p:nvPr/>
        </p:nvSpPr>
        <p:spPr>
          <a:xfrm>
            <a:off x="5334120" y="1066680"/>
            <a:ext cx="2209680" cy="2057400"/>
          </a:xfrm>
          <a:prstGeom prst="rightArrow">
            <a:avLst>
              <a:gd name="adj1" fmla="val 50000"/>
              <a:gd name="adj2" fmla="val 45268"/>
            </a:avLst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943600" y="1905120"/>
            <a:ext cx="457200" cy="3031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514600" y="1828800"/>
            <a:ext cx="76212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"Proxy"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1828800"/>
            <a:ext cx="304920" cy="533520"/>
          </a:xfrm>
          <a:prstGeom prst="rect">
            <a:avLst/>
          </a:prstGeom>
          <a:solidFill>
            <a:srgbClr val="cecece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209556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"/>
          <p:cNvSpPr/>
          <p:nvPr/>
        </p:nvSpPr>
        <p:spPr>
          <a:xfrm>
            <a:off x="4038480" y="1828800"/>
            <a:ext cx="160020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MessageSink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2057400"/>
            <a:ext cx="7617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"/>
          <p:cNvSpPr/>
          <p:nvPr/>
        </p:nvSpPr>
        <p:spPr>
          <a:xfrm>
            <a:off x="1676520" y="3657600"/>
            <a:ext cx="1447560" cy="2666880"/>
          </a:xfrm>
          <a:prstGeom prst="flowChartProcess">
            <a:avLst/>
          </a:pr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ransparent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Prox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4152960"/>
            <a:ext cx="1219320" cy="30492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thodA(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"/>
          <p:cNvSpPr/>
          <p:nvPr/>
        </p:nvSpPr>
        <p:spPr>
          <a:xfrm>
            <a:off x="1143000" y="4533840"/>
            <a:ext cx="1219320" cy="30492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thodB(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4915080"/>
            <a:ext cx="1219320" cy="30456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pertyQ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5295960"/>
            <a:ext cx="1219320" cy="30492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perty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"/>
          <p:cNvSpPr/>
          <p:nvPr/>
        </p:nvSpPr>
        <p:spPr>
          <a:xfrm>
            <a:off x="1143000" y="5676840"/>
            <a:ext cx="1219320" cy="30492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eldX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6058080"/>
            <a:ext cx="1219320" cy="30456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eld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"/>
          <p:cNvSpPr/>
          <p:nvPr/>
        </p:nvSpPr>
        <p:spPr>
          <a:xfrm>
            <a:off x="4343400" y="4495680"/>
            <a:ext cx="762120" cy="114300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l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x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93" name=""/>
          <p:cNvCxnSpPr>
            <a:stCxn id="286" idx="3"/>
            <a:endCxn id="292" idx="1"/>
          </p:cNvCxnSpPr>
          <p:nvPr/>
        </p:nvCxnSpPr>
        <p:spPr>
          <a:xfrm>
            <a:off x="2362320" y="4304880"/>
            <a:ext cx="1953000" cy="762840"/>
          </a:xfrm>
          <a:prstGeom prst="bentConnector3">
            <a:avLst>
              <a:gd name="adj1" fmla="val 5073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87" idx="3"/>
            <a:endCxn id="292" idx="1"/>
          </p:cNvCxnSpPr>
          <p:nvPr/>
        </p:nvCxnSpPr>
        <p:spPr>
          <a:xfrm>
            <a:off x="2362320" y="4686480"/>
            <a:ext cx="1953000" cy="381600"/>
          </a:xfrm>
          <a:prstGeom prst="bentConnector3">
            <a:avLst>
              <a:gd name="adj1" fmla="val 5073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88" idx="3"/>
            <a:endCxn id="292" idx="1"/>
          </p:cNvCxnSpPr>
          <p:nvPr/>
        </p:nvCxnSpPr>
        <p:spPr>
          <a:xfrm>
            <a:off x="2362320" y="5067000"/>
            <a:ext cx="195300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89" idx="3"/>
            <a:endCxn id="292" idx="1"/>
          </p:cNvCxnSpPr>
          <p:nvPr/>
        </p:nvCxnSpPr>
        <p:spPr>
          <a:xfrm flipV="1">
            <a:off x="2362320" y="5067000"/>
            <a:ext cx="1953000" cy="381600"/>
          </a:xfrm>
          <a:prstGeom prst="bentConnector3">
            <a:avLst>
              <a:gd name="adj1" fmla="val 5073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0" idx="3"/>
            <a:endCxn id="292" idx="1"/>
          </p:cNvCxnSpPr>
          <p:nvPr/>
        </p:nvCxnSpPr>
        <p:spPr>
          <a:xfrm flipV="1">
            <a:off x="2362320" y="5066640"/>
            <a:ext cx="1953000" cy="762840"/>
          </a:xfrm>
          <a:prstGeom prst="bentConnector3">
            <a:avLst>
              <a:gd name="adj1" fmla="val 5073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91" idx="3"/>
            <a:endCxn id="292" idx="1"/>
          </p:cNvCxnSpPr>
          <p:nvPr/>
        </p:nvCxnSpPr>
        <p:spPr>
          <a:xfrm flipV="1">
            <a:off x="2362320" y="5066640"/>
            <a:ext cx="1953000" cy="1143720"/>
          </a:xfrm>
          <a:prstGeom prst="bentConnector3">
            <a:avLst>
              <a:gd name="adj1" fmla="val 5073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9" name=""/>
          <p:cNvSpPr/>
          <p:nvPr/>
        </p:nvSpPr>
        <p:spPr>
          <a:xfrm>
            <a:off x="5994360" y="4495680"/>
            <a:ext cx="380880" cy="12193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"/>
          <p:cNvSpPr/>
          <p:nvPr/>
        </p:nvSpPr>
        <p:spPr>
          <a:xfrm>
            <a:off x="5105520" y="5079960"/>
            <a:ext cx="876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4305240"/>
            <a:ext cx="38088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4686480"/>
            <a:ext cx="38088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"/>
          <p:cNvSpPr/>
          <p:nvPr/>
        </p:nvSpPr>
        <p:spPr>
          <a:xfrm>
            <a:off x="762120" y="5067360"/>
            <a:ext cx="38088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"/>
          <p:cNvSpPr/>
          <p:nvPr/>
        </p:nvSpPr>
        <p:spPr>
          <a:xfrm>
            <a:off x="762120" y="5448240"/>
            <a:ext cx="38088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5829480"/>
            <a:ext cx="38088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6210360"/>
            <a:ext cx="38088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"/>
          <p:cNvSpPr/>
          <p:nvPr/>
        </p:nvSpPr>
        <p:spPr>
          <a:xfrm>
            <a:off x="4114800" y="4038480"/>
            <a:ext cx="106668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ild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"/>
          <p:cNvSpPr/>
          <p:nvPr/>
        </p:nvSpPr>
        <p:spPr>
          <a:xfrm>
            <a:off x="3352680" y="4724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voke(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5867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ncProcessMessage(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257440" y="52578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The Dispatcher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262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ated at the channel end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ves mess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s stack-frame from message 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kes actual method on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s result and creates response me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800600" y="1219320"/>
            <a:ext cx="3048120" cy="175248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"/>
          <p:cNvSpPr/>
          <p:nvPr/>
        </p:nvSpPr>
        <p:spPr>
          <a:xfrm>
            <a:off x="7086600" y="1828800"/>
            <a:ext cx="533520" cy="533520"/>
          </a:xfrm>
          <a:prstGeom prst="rect">
            <a:avLst/>
          </a:prstGeom>
          <a:solidFill>
            <a:srgbClr val="cecece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1828800"/>
            <a:ext cx="160020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"/>
          <p:cNvSpPr/>
          <p:nvPr/>
        </p:nvSpPr>
        <p:spPr>
          <a:xfrm>
            <a:off x="6553080" y="2108160"/>
            <a:ext cx="53352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The Dispatcher illustrated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18" name=""/>
          <p:cNvSpPr/>
          <p:nvPr/>
        </p:nvSpPr>
        <p:spPr>
          <a:xfrm>
            <a:off x="1676520" y="1219320"/>
            <a:ext cx="990360" cy="167616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3429000"/>
            <a:ext cx="5638680" cy="3124080"/>
          </a:xfrm>
          <a:prstGeom prst="wedgeRectCallout">
            <a:avLst>
              <a:gd name="adj1" fmla="val 39245"/>
              <a:gd name="adj2" fmla="val -83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1828800"/>
            <a:ext cx="533520" cy="533520"/>
          </a:xfrm>
          <a:prstGeom prst="rect">
            <a:avLst/>
          </a:prstGeom>
          <a:solidFill>
            <a:srgbClr val="cecece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"/>
          <p:cNvSpPr/>
          <p:nvPr/>
        </p:nvSpPr>
        <p:spPr>
          <a:xfrm>
            <a:off x="2362320" y="2108160"/>
            <a:ext cx="53316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"/>
          <p:cNvSpPr/>
          <p:nvPr/>
        </p:nvSpPr>
        <p:spPr>
          <a:xfrm>
            <a:off x="2895480" y="1066680"/>
            <a:ext cx="2210040" cy="2057400"/>
          </a:xfrm>
          <a:prstGeom prst="rightArrow">
            <a:avLst>
              <a:gd name="adj1" fmla="val 50000"/>
              <a:gd name="adj2" fmla="val 45275"/>
            </a:avLst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3670200"/>
            <a:ext cx="1447920" cy="2667240"/>
          </a:xfrm>
          <a:prstGeom prst="flowChartProcess">
            <a:avLst/>
          </a:pr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"/>
          <p:cNvSpPr/>
          <p:nvPr/>
        </p:nvSpPr>
        <p:spPr>
          <a:xfrm>
            <a:off x="4191120" y="4165560"/>
            <a:ext cx="1218960" cy="30492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thodA(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4546440"/>
            <a:ext cx="1218960" cy="30492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thodB(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"/>
          <p:cNvSpPr/>
          <p:nvPr/>
        </p:nvSpPr>
        <p:spPr>
          <a:xfrm>
            <a:off x="4191120" y="4927680"/>
            <a:ext cx="1218960" cy="30456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pertyQ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"/>
          <p:cNvSpPr/>
          <p:nvPr/>
        </p:nvSpPr>
        <p:spPr>
          <a:xfrm>
            <a:off x="4191120" y="5308560"/>
            <a:ext cx="1218960" cy="30492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perty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"/>
          <p:cNvSpPr/>
          <p:nvPr/>
        </p:nvSpPr>
        <p:spPr>
          <a:xfrm>
            <a:off x="4191120" y="5689440"/>
            <a:ext cx="1218960" cy="30492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eldX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"/>
          <p:cNvSpPr/>
          <p:nvPr/>
        </p:nvSpPr>
        <p:spPr>
          <a:xfrm>
            <a:off x="4191120" y="6070680"/>
            <a:ext cx="1218960" cy="30456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eld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"/>
          <p:cNvSpPr/>
          <p:nvPr/>
        </p:nvSpPr>
        <p:spPr>
          <a:xfrm>
            <a:off x="1600200" y="4508640"/>
            <a:ext cx="1905120" cy="114300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tackBuilderSink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31" name=""/>
          <p:cNvCxnSpPr>
            <a:stCxn id="324" idx="1"/>
            <a:endCxn id="330" idx="3"/>
          </p:cNvCxnSpPr>
          <p:nvPr/>
        </p:nvCxnSpPr>
        <p:spPr>
          <a:xfrm flipV="1" rot="10800000">
            <a:off x="3533040" y="4316760"/>
            <a:ext cx="658080" cy="762840"/>
          </a:xfrm>
          <a:prstGeom prst="bentConnector3">
            <a:avLst>
              <a:gd name="adj1" fmla="val 52162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32" name=""/>
          <p:cNvCxnSpPr>
            <a:stCxn id="325" idx="1"/>
            <a:endCxn id="330" idx="3"/>
          </p:cNvCxnSpPr>
          <p:nvPr/>
        </p:nvCxnSpPr>
        <p:spPr>
          <a:xfrm flipV="1" rot="10800000">
            <a:off x="3533040" y="4698720"/>
            <a:ext cx="658080" cy="381600"/>
          </a:xfrm>
          <a:prstGeom prst="bentConnector3">
            <a:avLst>
              <a:gd name="adj1" fmla="val 52162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33" name=""/>
          <p:cNvCxnSpPr>
            <a:stCxn id="326" idx="1"/>
            <a:endCxn id="330" idx="3"/>
          </p:cNvCxnSpPr>
          <p:nvPr/>
        </p:nvCxnSpPr>
        <p:spPr>
          <a:xfrm rot="10800000">
            <a:off x="3533040" y="5079240"/>
            <a:ext cx="65808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34" name=""/>
          <p:cNvCxnSpPr>
            <a:stCxn id="327" idx="1"/>
            <a:endCxn id="330" idx="3"/>
          </p:cNvCxnSpPr>
          <p:nvPr/>
        </p:nvCxnSpPr>
        <p:spPr>
          <a:xfrm rot="10800000">
            <a:off x="3533040" y="5079240"/>
            <a:ext cx="658080" cy="381600"/>
          </a:xfrm>
          <a:prstGeom prst="bentConnector3">
            <a:avLst>
              <a:gd name="adj1" fmla="val 52162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35" name=""/>
          <p:cNvCxnSpPr>
            <a:stCxn id="328" idx="1"/>
            <a:endCxn id="330" idx="3"/>
          </p:cNvCxnSpPr>
          <p:nvPr/>
        </p:nvCxnSpPr>
        <p:spPr>
          <a:xfrm rot="10800000">
            <a:off x="3533040" y="5079240"/>
            <a:ext cx="658080" cy="762840"/>
          </a:xfrm>
          <a:prstGeom prst="bentConnector3">
            <a:avLst>
              <a:gd name="adj1" fmla="val 52162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36" name=""/>
          <p:cNvCxnSpPr>
            <a:stCxn id="329" idx="1"/>
            <a:endCxn id="330" idx="3"/>
          </p:cNvCxnSpPr>
          <p:nvPr/>
        </p:nvCxnSpPr>
        <p:spPr>
          <a:xfrm rot="10800000">
            <a:off x="3533040" y="5079240"/>
            <a:ext cx="658080" cy="1143720"/>
          </a:xfrm>
          <a:prstGeom prst="bentConnector3">
            <a:avLst>
              <a:gd name="adj1" fmla="val 52162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762120" y="4495680"/>
            <a:ext cx="380880" cy="1219320"/>
          </a:xfrm>
          <a:prstGeom prst="rect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"/>
          <p:cNvSpPr/>
          <p:nvPr/>
        </p:nvSpPr>
        <p:spPr>
          <a:xfrm>
            <a:off x="1143000" y="5105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59878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ncDispatchMessage(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1295280" y="5257800"/>
            <a:ext cx="15264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3505320" y="1905120"/>
            <a:ext cx="457200" cy="3031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676520" y="365760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ctual method call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403848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66ff"/>
                </a:solidFill>
                <a:latin typeface="Arial Narrow"/>
              </a:rPr>
              <a:t>Channel Sink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84120" y="1474920"/>
            <a:ext cx="7321680" cy="97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tter, dispatcher and transport are in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 channel sinks are linked in ch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55640" y="2600280"/>
            <a:ext cx="2952720" cy="392436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"/>
          <p:cNvSpPr/>
          <p:nvPr/>
        </p:nvSpPr>
        <p:spPr>
          <a:xfrm>
            <a:off x="5076720" y="2563920"/>
            <a:ext cx="2808360" cy="396072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659040"/>
            <a:ext cx="190800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tackBuilderSink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"/>
          <p:cNvSpPr/>
          <p:nvPr/>
        </p:nvSpPr>
        <p:spPr>
          <a:xfrm>
            <a:off x="5418000" y="3003480"/>
            <a:ext cx="1944720" cy="533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er Objec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"/>
          <p:cNvSpPr/>
          <p:nvPr/>
        </p:nvSpPr>
        <p:spPr>
          <a:xfrm>
            <a:off x="5435640" y="4378320"/>
            <a:ext cx="190800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ormatter Sink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364000" y="5019840"/>
            <a:ext cx="2052720" cy="684000"/>
            <a:chOff x="5364000" y="5019840"/>
            <a:chExt cx="2052720" cy="684000"/>
          </a:xfrm>
        </p:grpSpPr>
        <p:sp>
          <p:nvSpPr>
            <p:cNvPr id="352" name=""/>
            <p:cNvSpPr/>
            <p:nvPr/>
          </p:nvSpPr>
          <p:spPr>
            <a:xfrm>
              <a:off x="5364000" y="5019840"/>
              <a:ext cx="1908360" cy="533160"/>
            </a:xfrm>
            <a:prstGeom prst="rect">
              <a:avLst/>
            </a:prstGeom>
            <a:solidFill>
              <a:srgbClr val="a5002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Custom Sink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37080" y="5091120"/>
              <a:ext cx="1908360" cy="533520"/>
            </a:xfrm>
            <a:prstGeom prst="rect">
              <a:avLst/>
            </a:prstGeom>
            <a:solidFill>
              <a:srgbClr val="a5002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Custom Sink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08720" y="5170320"/>
              <a:ext cx="1908000" cy="533520"/>
            </a:xfrm>
            <a:prstGeom prst="rect">
              <a:avLst/>
            </a:prstGeom>
            <a:solidFill>
              <a:srgbClr val="a5002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Custom Sink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435640" y="5811840"/>
            <a:ext cx="190800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ransport Sink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"/>
          <p:cNvSpPr/>
          <p:nvPr/>
        </p:nvSpPr>
        <p:spPr>
          <a:xfrm>
            <a:off x="2124000" y="3651120"/>
            <a:ext cx="1908360" cy="533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7" name=""/>
          <p:cNvSpPr/>
          <p:nvPr/>
        </p:nvSpPr>
        <p:spPr>
          <a:xfrm>
            <a:off x="2106720" y="3003480"/>
            <a:ext cx="19447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lient Objec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"/>
          <p:cNvSpPr/>
          <p:nvPr/>
        </p:nvSpPr>
        <p:spPr>
          <a:xfrm>
            <a:off x="2124000" y="4370400"/>
            <a:ext cx="190836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ormatter Sink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052720" y="5011560"/>
            <a:ext cx="2052720" cy="684360"/>
            <a:chOff x="2052720" y="5011560"/>
            <a:chExt cx="2052720" cy="684360"/>
          </a:xfrm>
        </p:grpSpPr>
        <p:sp>
          <p:nvSpPr>
            <p:cNvPr id="360" name=""/>
            <p:cNvSpPr/>
            <p:nvPr/>
          </p:nvSpPr>
          <p:spPr>
            <a:xfrm>
              <a:off x="2052720" y="5011560"/>
              <a:ext cx="1908000" cy="533520"/>
            </a:xfrm>
            <a:prstGeom prst="rect">
              <a:avLst/>
            </a:prstGeom>
            <a:solidFill>
              <a:srgbClr val="a5002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Custom Sink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25800" y="5083200"/>
              <a:ext cx="1908000" cy="533520"/>
            </a:xfrm>
            <a:prstGeom prst="rect">
              <a:avLst/>
            </a:prstGeom>
            <a:solidFill>
              <a:srgbClr val="a5002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Custom Sink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97080" y="5162400"/>
              <a:ext cx="1908360" cy="533520"/>
            </a:xfrm>
            <a:prstGeom prst="rect">
              <a:avLst/>
            </a:prstGeom>
            <a:solidFill>
              <a:srgbClr val="a5002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Custom Sink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124000" y="5803920"/>
            <a:ext cx="1908360" cy="533520"/>
          </a:xfrm>
          <a:prstGeom prst="rect">
            <a:avLst/>
          </a:prstGeom>
          <a:solidFill>
            <a:srgbClr val="a50021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ransport Sink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"/>
          <p:cNvSpPr/>
          <p:nvPr/>
        </p:nvSpPr>
        <p:spPr>
          <a:xfrm>
            <a:off x="4032360" y="6056280"/>
            <a:ext cx="1368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365" name=""/>
          <p:cNvCxnSpPr>
            <a:stCxn id="357" idx="3"/>
            <a:endCxn id="356" idx="3"/>
          </p:cNvCxnSpPr>
          <p:nvPr/>
        </p:nvCxnSpPr>
        <p:spPr>
          <a:xfrm flipH="1">
            <a:off x="4031640" y="3269880"/>
            <a:ext cx="19800" cy="648360"/>
          </a:xfrm>
          <a:prstGeom prst="curvedConnector5">
            <a:avLst>
              <a:gd name="adj1" fmla="val -1200000"/>
              <a:gd name="adj2" fmla="val 50000"/>
              <a:gd name="adj3" fmla="val -1200000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56" idx="1"/>
            <a:endCxn id="358" idx="1"/>
          </p:cNvCxnSpPr>
          <p:nvPr/>
        </p:nvCxnSpPr>
        <p:spPr>
          <a:xfrm flipV="1" rot="10800000">
            <a:off x="2094840" y="3917520"/>
            <a:ext cx="29160" cy="720000"/>
          </a:xfrm>
          <a:prstGeom prst="curvedConnector5">
            <a:avLst>
              <a:gd name="adj1" fmla="val 800000"/>
              <a:gd name="adj2" fmla="val 49974"/>
              <a:gd name="adj3" fmla="val 800000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58" idx="3"/>
            <a:endCxn id="362" idx="3"/>
          </p:cNvCxnSpPr>
          <p:nvPr/>
        </p:nvCxnSpPr>
        <p:spPr>
          <a:xfrm>
            <a:off x="4060800" y="4637160"/>
            <a:ext cx="45360" cy="792720"/>
          </a:xfrm>
          <a:prstGeom prst="curvedConnector5">
            <a:avLst>
              <a:gd name="adj1" fmla="val 613600"/>
              <a:gd name="adj2" fmla="val 49977"/>
              <a:gd name="adj3" fmla="val 613600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68" name=""/>
          <p:cNvCxnSpPr>
            <a:stCxn id="362" idx="1"/>
            <a:endCxn id="363" idx="1"/>
          </p:cNvCxnSpPr>
          <p:nvPr/>
        </p:nvCxnSpPr>
        <p:spPr>
          <a:xfrm flipV="1" rot="10800000">
            <a:off x="2094840" y="5428800"/>
            <a:ext cx="102240" cy="642240"/>
          </a:xfrm>
          <a:prstGeom prst="curvedConnector5">
            <a:avLst>
              <a:gd name="adj1" fmla="val 296819"/>
              <a:gd name="adj2" fmla="val 49971"/>
              <a:gd name="adj3" fmla="val 296819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55" idx="3"/>
            <a:endCxn id="354" idx="3"/>
          </p:cNvCxnSpPr>
          <p:nvPr/>
        </p:nvCxnSpPr>
        <p:spPr>
          <a:xfrm flipV="1">
            <a:off x="7372080" y="5436720"/>
            <a:ext cx="45000" cy="642240"/>
          </a:xfrm>
          <a:prstGeom prst="curvedConnector5">
            <a:avLst>
              <a:gd name="adj1" fmla="val 613709"/>
              <a:gd name="adj2" fmla="val 49971"/>
              <a:gd name="adj3" fmla="val 613709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54" idx="1"/>
            <a:endCxn id="350" idx="1"/>
          </p:cNvCxnSpPr>
          <p:nvPr/>
        </p:nvCxnSpPr>
        <p:spPr>
          <a:xfrm rot="10800000">
            <a:off x="5406480" y="4644360"/>
            <a:ext cx="102240" cy="792720"/>
          </a:xfrm>
          <a:prstGeom prst="curvedConnector5">
            <a:avLst>
              <a:gd name="adj1" fmla="val 296819"/>
              <a:gd name="adj2" fmla="val 49977"/>
              <a:gd name="adj3" fmla="val 296819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50" idx="3"/>
            <a:endCxn id="348" idx="3"/>
          </p:cNvCxnSpPr>
          <p:nvPr/>
        </p:nvCxnSpPr>
        <p:spPr>
          <a:xfrm flipV="1">
            <a:off x="7372440" y="3925440"/>
            <a:ext cx="2160" cy="720000"/>
          </a:xfrm>
          <a:prstGeom prst="curvedConnector5">
            <a:avLst>
              <a:gd name="adj1" fmla="val 12600000"/>
              <a:gd name="adj2" fmla="val 49974"/>
              <a:gd name="adj3" fmla="val 12600000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2" name=""/>
          <p:cNvCxnSpPr>
            <a:stCxn id="348" idx="1"/>
            <a:endCxn id="349" idx="1"/>
          </p:cNvCxnSpPr>
          <p:nvPr/>
        </p:nvCxnSpPr>
        <p:spPr>
          <a:xfrm flipH="1" rot="10800000">
            <a:off x="5406840" y="3269520"/>
            <a:ext cx="11520" cy="656280"/>
          </a:xfrm>
          <a:prstGeom prst="curvedConnector5">
            <a:avLst>
              <a:gd name="adj1" fmla="val -1954838"/>
              <a:gd name="adj2" fmla="val 50000"/>
              <a:gd name="adj3" fmla="val -1954838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ome Advanced Topic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74560"/>
            <a:ext cx="7321680" cy="31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ing Methods "One-Wa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"oneway" attribu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oneway] void FireAndFor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ll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ty bag passed with every IMe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ctionary entry "__CallContext", class Call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s to pass processing information al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ection 3: Contexts and Interception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474560"/>
            <a:ext cx="7321680" cy="32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Rules an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Attributes and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eption: Context and Message Ch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ontext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 Context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ontext Rules and Concept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474920"/>
            <a:ext cx="7321680" cy="474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s enclose "contextful"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es derived from System.ContextBound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 for class declared using context attrib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context boundary is share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s have identical attribut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ext attributes actively agree to devi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bjects in other contexts are "remot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ptually similar to AppDomain bound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s crossing boundary may be inter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ns of IMessageSinks allows hooks at any s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ontent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265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1: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2: Remoting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3: Context and Int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4: Serving and Access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772400" y="1828800"/>
            <a:ext cx="106668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ontext Attributes and Propertie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81" name=""/>
          <p:cNvSpPr/>
          <p:nvPr/>
        </p:nvSpPr>
        <p:spPr>
          <a:xfrm>
            <a:off x="5338800" y="3429000"/>
            <a:ext cx="2662200" cy="2600280"/>
          </a:xfrm>
          <a:prstGeom prst="flowChartAlternateProcess">
            <a:avLst/>
          </a:pr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5524560"/>
            <a:ext cx="938160" cy="952560"/>
          </a:xfrm>
          <a:prstGeom prst="flowChartConnector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705720" y="4343400"/>
            <a:ext cx="990360" cy="681120"/>
            <a:chOff x="6705720" y="4343400"/>
            <a:chExt cx="990360" cy="681120"/>
          </a:xfrm>
        </p:grpSpPr>
        <p:sp>
          <p:nvSpPr>
            <p:cNvPr id="384" name=""/>
            <p:cNvSpPr/>
            <p:nvPr/>
          </p:nvSpPr>
          <p:spPr>
            <a:xfrm>
              <a:off x="7002720" y="4343400"/>
              <a:ext cx="693360" cy="681120"/>
            </a:xfrm>
            <a:prstGeom prst="flowChartProcess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05720" y="4386960"/>
              <a:ext cx="148320" cy="156960"/>
            </a:xfrm>
            <a:prstGeom prst="flowChartDecision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6854040" y="4474440"/>
              <a:ext cx="14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05720" y="4605480"/>
              <a:ext cx="148320" cy="156960"/>
            </a:xfrm>
            <a:prstGeom prst="flowChartDecision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6854040" y="4692600"/>
              <a:ext cx="14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762120" y="2489040"/>
            <a:ext cx="2286000" cy="1397160"/>
          </a:xfrm>
          <a:prstGeom prst="flowChartProcess">
            <a:avLst/>
          </a:pr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ontext-Bound Clas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"/>
          <p:cNvSpPr/>
          <p:nvPr/>
        </p:nvSpPr>
        <p:spPr>
          <a:xfrm>
            <a:off x="1751040" y="1752480"/>
            <a:ext cx="306360" cy="75096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144" y="720"/>
                </a:moveTo>
                <a:lnTo>
                  <a:pt x="144" y="192"/>
                </a:lnTo>
                <a:lnTo>
                  <a:pt x="0" y="192"/>
                </a:lnTo>
                <a:lnTo>
                  <a:pt x="144" y="0"/>
                </a:lnTo>
                <a:lnTo>
                  <a:pt x="288" y="192"/>
                </a:lnTo>
                <a:lnTo>
                  <a:pt x="144" y="19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1143000"/>
            <a:ext cx="2286000" cy="600120"/>
          </a:xfrm>
          <a:prstGeom prst="flowChartProcess">
            <a:avLst/>
          </a:pr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ystem.</a:t>
            </a:r>
            <a:br>
              <a:rPr sz="16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ontextBoundObjec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"/>
          <p:cNvSpPr/>
          <p:nvPr/>
        </p:nvSpPr>
        <p:spPr>
          <a:xfrm>
            <a:off x="2209680" y="2666880"/>
            <a:ext cx="1143000" cy="38124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"/>
          <p:cNvSpPr/>
          <p:nvPr/>
        </p:nvSpPr>
        <p:spPr>
          <a:xfrm>
            <a:off x="6301440" y="38862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reate objec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"/>
          <p:cNvSpPr/>
          <p:nvPr/>
        </p:nvSpPr>
        <p:spPr>
          <a:xfrm>
            <a:off x="4674960" y="25909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sContextOK() </a:t>
            </a:r>
            <a:r>
              <a:rPr b="1" lang="de-DE" sz="1800" spc="-1" strike="noStrike">
                <a:solidFill>
                  <a:srgbClr val="a5002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428640" y="2819520"/>
            <a:ext cx="1143000" cy="7596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"/>
          <p:cNvSpPr/>
          <p:nvPr/>
        </p:nvSpPr>
        <p:spPr>
          <a:xfrm>
            <a:off x="6095880" y="2971800"/>
            <a:ext cx="304920" cy="457200"/>
          </a:xfrm>
          <a:prstGeom prst="line">
            <a:avLst/>
          </a:prstGeom>
          <a:ln w="38160">
            <a:solidFill>
              <a:srgbClr val="a50021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2666880"/>
            <a:ext cx="381240" cy="38124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3276720" y="3200040"/>
            <a:ext cx="457200" cy="152388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"/>
          <p:cNvSpPr/>
          <p:nvPr/>
        </p:nvSpPr>
        <p:spPr>
          <a:xfrm rot="18809400">
            <a:off x="3657600" y="4419360"/>
            <a:ext cx="106668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"/>
          <p:cNvSpPr/>
          <p:nvPr/>
        </p:nvSpPr>
        <p:spPr>
          <a:xfrm>
            <a:off x="1176480" y="4800600"/>
            <a:ext cx="41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Arial"/>
              </a:rPr>
              <a:t>No!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tPropertiesForNewContext() </a:t>
            </a:r>
            <a:r>
              <a:rPr b="1" lang="de-DE" sz="1800" spc="-1" strike="noStrike">
                <a:solidFill>
                  <a:srgbClr val="a50021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"/>
          <p:cNvSpPr/>
          <p:nvPr/>
        </p:nvSpPr>
        <p:spPr>
          <a:xfrm>
            <a:off x="3314880" y="3733920"/>
            <a:ext cx="380880" cy="38088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5029200" y="3657240"/>
            <a:ext cx="1447920" cy="762120"/>
          </a:xfrm>
          <a:prstGeom prst="line">
            <a:avLst/>
          </a:prstGeom>
          <a:ln w="7632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"/>
          <p:cNvSpPr/>
          <p:nvPr/>
        </p:nvSpPr>
        <p:spPr>
          <a:xfrm>
            <a:off x="5740560" y="3949560"/>
            <a:ext cx="380880" cy="38124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"/>
          <p:cNvSpPr/>
          <p:nvPr/>
        </p:nvSpPr>
        <p:spPr>
          <a:xfrm rot="1159200">
            <a:off x="3787200" y="157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"/>
          <p:cNvSpPr/>
          <p:nvPr/>
        </p:nvSpPr>
        <p:spPr>
          <a:xfrm>
            <a:off x="5788080" y="1371600"/>
            <a:ext cx="3051000" cy="368280"/>
          </a:xfrm>
          <a:prstGeom prst="rect">
            <a:avLst/>
          </a:prstGeom>
          <a:solidFill>
            <a:srgbClr val="cecece">
              <a:alpha val="50000"/>
            </a:srgbClr>
          </a:solidFill>
          <a:ln w="6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Arial"/>
              </a:rPr>
              <a:t>Yes!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se existing context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"/>
          <p:cNvSpPr/>
          <p:nvPr/>
        </p:nvSpPr>
        <p:spPr>
          <a:xfrm>
            <a:off x="5788080" y="1836720"/>
            <a:ext cx="3051000" cy="368280"/>
          </a:xfrm>
          <a:prstGeom prst="rect">
            <a:avLst/>
          </a:prstGeom>
          <a:solidFill>
            <a:srgbClr val="cecece">
              <a:alpha val="50000"/>
            </a:srgbClr>
          </a:solidFill>
          <a:ln w="6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Arial"/>
              </a:rPr>
              <a:t>No!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reate new context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407" name=""/>
          <p:cNvCxnSpPr>
            <a:stCxn id="394" idx="3"/>
            <a:endCxn id="405" idx="1"/>
          </p:cNvCxnSpPr>
          <p:nvPr/>
        </p:nvCxnSpPr>
        <p:spPr>
          <a:xfrm flipH="1" flipV="1">
            <a:off x="5787360" y="1558440"/>
            <a:ext cx="810360" cy="1216800"/>
          </a:xfrm>
          <a:prstGeom prst="bentConnector5">
            <a:avLst>
              <a:gd name="adj1" fmla="val -28222"/>
              <a:gd name="adj2" fmla="val 30393"/>
              <a:gd name="adj3" fmla="val 161155"/>
            </a:avLst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408" name=""/>
          <p:cNvCxnSpPr>
            <a:stCxn id="394" idx="3"/>
            <a:endCxn id="406" idx="1"/>
          </p:cNvCxnSpPr>
          <p:nvPr/>
        </p:nvCxnSpPr>
        <p:spPr>
          <a:xfrm flipH="1" flipV="1">
            <a:off x="5787360" y="2023560"/>
            <a:ext cx="810360" cy="751680"/>
          </a:xfrm>
          <a:prstGeom prst="bentConnector5">
            <a:avLst>
              <a:gd name="adj1" fmla="val -28222"/>
              <a:gd name="adj2" fmla="val 49880"/>
              <a:gd name="adj3" fmla="val 161333"/>
            </a:avLst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409" name=""/>
          <p:cNvSpPr/>
          <p:nvPr/>
        </p:nvSpPr>
        <p:spPr>
          <a:xfrm>
            <a:off x="2357280" y="1905120"/>
            <a:ext cx="2357640" cy="1143000"/>
          </a:xfrm>
          <a:custGeom>
            <a:avLst/>
            <a:gdLst>
              <a:gd name="textAreaLeft" fmla="*/ 0 w 2357640"/>
              <a:gd name="textAreaRight" fmla="*/ 2358000 w 23576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2749" y="14370"/>
                </a:moveTo>
                <a:arcTo wR="-8807" hR="-8807" stAng="9365183" swAng="-9365183"/>
                <a:lnTo>
                  <a:pt x="0" y="10800"/>
                </a:lnTo>
                <a:arcTo wR="10800" hR="10800" stAng="10800000" swAng="9365183"/>
                <a:lnTo>
                  <a:pt x="23141" y="5328"/>
                </a:lnTo>
                <a:lnTo>
                  <a:pt x="21260" y="10205"/>
                </a:lnTo>
                <a:lnTo>
                  <a:pt x="16383" y="8324"/>
                </a:lnTo>
                <a:close/>
              </a:path>
            </a:pathLst>
          </a:cu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714840" y="4429080"/>
            <a:ext cx="2143080" cy="1571760"/>
          </a:xfrm>
          <a:custGeom>
            <a:avLst/>
            <a:gdLst>
              <a:gd name="textAreaLeft" fmla="*/ 0 w 2143080"/>
              <a:gd name="textAreaRight" fmla="*/ 2143440 w 2143080"/>
              <a:gd name="textAreaTop" fmla="*/ 360 h 1571760"/>
              <a:gd name="textAreaBottom" fmla="*/ 1572480 h 1571760"/>
            </a:gdLst>
            <a:ahLst/>
            <a:rect l="textAreaLeft" t="textAreaTop" r="textAreaRight" b="textAreaBottom"/>
            <a:pathLst>
              <a:path w="21600" h="21600">
                <a:moveTo>
                  <a:pt x="8000" y="19767"/>
                </a:moveTo>
                <a:arcTo wR="-9394" hR="-9394" stAng="6440368" swAng="-6440368"/>
                <a:lnTo>
                  <a:pt x="0" y="10800"/>
                </a:lnTo>
                <a:arcTo wR="10800" hR="10800" stAng="10800000" swAng="6440368"/>
                <a:lnTo>
                  <a:pt x="14823" y="-2087"/>
                </a:lnTo>
                <a:lnTo>
                  <a:pt x="17058" y="2176"/>
                </a:lnTo>
                <a:lnTo>
                  <a:pt x="12795" y="4410"/>
                </a:lnTo>
                <a:close/>
              </a:path>
            </a:pathLst>
          </a:cu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7071480" y="1285920"/>
            <a:ext cx="1714680" cy="2357280"/>
          </a:xfrm>
          <a:custGeom>
            <a:avLst/>
            <a:gdLst>
              <a:gd name="textAreaLeft" fmla="*/ -360 w 1714680"/>
              <a:gd name="textAreaRight" fmla="*/ 1714680 w 1714680"/>
              <a:gd name="textAreaTop" fmla="*/ 360 h 2357280"/>
              <a:gd name="textAreaBottom" fmla="*/ 2358000 h 2357280"/>
            </a:gdLst>
            <a:ahLst/>
            <a:rect l="textAreaLeft" t="textAreaTop" r="textAreaRight" b="textAreaBottom"/>
            <a:pathLst>
              <a:path w="21600" h="21600">
                <a:moveTo>
                  <a:pt x="14640" y="19273"/>
                </a:moveTo>
                <a:arcTo wR="-9302" hR="-9302" stAng="3937185" swAng="-4412444"/>
                <a:lnTo>
                  <a:pt x="103" y="12288"/>
                </a:lnTo>
                <a:arcTo wR="10800" hR="10800" stAng="10324741" swAng="4412444"/>
                <a:lnTo>
                  <a:pt x="5227" y="-1496"/>
                </a:lnTo>
                <a:lnTo>
                  <a:pt x="9792" y="222"/>
                </a:lnTo>
                <a:lnTo>
                  <a:pt x="8075" y="4787"/>
                </a:lnTo>
                <a:close/>
              </a:path>
            </a:pathLst>
          </a:cu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Interception: Message Chain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321680" cy="153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message passes a four chains of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properties contribute these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 attributes allow intercepting all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638680" y="3124080"/>
            <a:ext cx="2514600" cy="2590920"/>
          </a:xfrm>
          <a:prstGeom prst="rect">
            <a:avLst/>
          </a:prstGeom>
          <a:solidFill>
            <a:srgbClr val="618ffd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5" name=""/>
          <p:cNvSpPr/>
          <p:nvPr/>
        </p:nvSpPr>
        <p:spPr>
          <a:xfrm>
            <a:off x="838080" y="3124080"/>
            <a:ext cx="2362320" cy="2590920"/>
          </a:xfrm>
          <a:prstGeom prst="rect">
            <a:avLst/>
          </a:prstGeom>
          <a:solidFill>
            <a:srgbClr val="618ffd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"/>
          <p:cNvSpPr/>
          <p:nvPr/>
        </p:nvSpPr>
        <p:spPr>
          <a:xfrm>
            <a:off x="1143000" y="3467160"/>
            <a:ext cx="1752480" cy="1905120"/>
          </a:xfrm>
          <a:prstGeom prst="flowChartAlternateProcess">
            <a:avLst/>
          </a:pr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"/>
          <p:cNvSpPr/>
          <p:nvPr/>
        </p:nvSpPr>
        <p:spPr>
          <a:xfrm>
            <a:off x="1752480" y="4152960"/>
            <a:ext cx="53352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"/>
          <p:cNvSpPr/>
          <p:nvPr/>
        </p:nvSpPr>
        <p:spPr>
          <a:xfrm>
            <a:off x="6019920" y="3467160"/>
            <a:ext cx="1752480" cy="1905120"/>
          </a:xfrm>
          <a:prstGeom prst="flowChartAlternateProcess">
            <a:avLst/>
          </a:pr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4152960"/>
            <a:ext cx="53352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"/>
          <p:cNvSpPr/>
          <p:nvPr/>
        </p:nvSpPr>
        <p:spPr>
          <a:xfrm>
            <a:off x="2209680" y="4191120"/>
            <a:ext cx="152640" cy="457200"/>
          </a:xfrm>
          <a:prstGeom prst="flowChartProcess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"/>
          <p:cNvSpPr/>
          <p:nvPr/>
        </p:nvSpPr>
        <p:spPr>
          <a:xfrm>
            <a:off x="2793960" y="4127400"/>
            <a:ext cx="152280" cy="609840"/>
          </a:xfrm>
          <a:prstGeom prst="flowChartProcess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"/>
          <p:cNvSpPr/>
          <p:nvPr/>
        </p:nvSpPr>
        <p:spPr>
          <a:xfrm>
            <a:off x="5943600" y="4102200"/>
            <a:ext cx="152280" cy="609480"/>
          </a:xfrm>
          <a:prstGeom prst="flowChartProcess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"/>
          <p:cNvSpPr/>
          <p:nvPr/>
        </p:nvSpPr>
        <p:spPr>
          <a:xfrm>
            <a:off x="6553080" y="4191120"/>
            <a:ext cx="152640" cy="457200"/>
          </a:xfrm>
          <a:prstGeom prst="flowChartProcess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5867280"/>
            <a:ext cx="1600200" cy="609840"/>
          </a:xfrm>
          <a:prstGeom prst="wedgeRectCallout">
            <a:avLst>
              <a:gd name="adj1" fmla="val 44444"/>
              <a:gd name="adj2" fmla="val -230208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ver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voy Chai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"/>
          <p:cNvSpPr/>
          <p:nvPr/>
        </p:nvSpPr>
        <p:spPr>
          <a:xfrm>
            <a:off x="2514600" y="5867280"/>
            <a:ext cx="1600200" cy="609840"/>
          </a:xfrm>
          <a:prstGeom prst="wedgeRectCallout">
            <a:avLst>
              <a:gd name="adj1" fmla="val -27180"/>
              <a:gd name="adj2" fmla="val -222398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lient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ontext Chai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"/>
          <p:cNvSpPr/>
          <p:nvPr/>
        </p:nvSpPr>
        <p:spPr>
          <a:xfrm>
            <a:off x="4800600" y="5867280"/>
            <a:ext cx="1600200" cy="609840"/>
          </a:xfrm>
          <a:prstGeom prst="wedgeRectCallout">
            <a:avLst>
              <a:gd name="adj1" fmla="val 23314"/>
              <a:gd name="adj2" fmla="val -25573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ver Context Chai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"/>
          <p:cNvSpPr/>
          <p:nvPr/>
        </p:nvSpPr>
        <p:spPr>
          <a:xfrm>
            <a:off x="6705720" y="5867280"/>
            <a:ext cx="1600200" cy="609840"/>
          </a:xfrm>
          <a:prstGeom prst="wedgeRectCallout">
            <a:avLst>
              <a:gd name="adj1" fmla="val -54564"/>
              <a:gd name="adj2" fmla="val -265625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ver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bject Chai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"/>
          <p:cNvSpPr/>
          <p:nvPr/>
        </p:nvSpPr>
        <p:spPr>
          <a:xfrm>
            <a:off x="2362320" y="4419720"/>
            <a:ext cx="419076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"/>
          <p:cNvSpPr/>
          <p:nvPr/>
        </p:nvSpPr>
        <p:spPr>
          <a:xfrm>
            <a:off x="3352680" y="3581280"/>
            <a:ext cx="2210040" cy="1676520"/>
          </a:xfrm>
          <a:prstGeom prst="rightArrow">
            <a:avLst>
              <a:gd name="adj1" fmla="val 50000"/>
              <a:gd name="adj2" fmla="val 55561"/>
            </a:avLst>
          </a:prstGeom>
          <a:solidFill>
            <a:srgbClr val="ffffff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4038480" y="4267080"/>
            <a:ext cx="457200" cy="3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hain Hooks: Message Sink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74560"/>
            <a:ext cx="7321680" cy="49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Object S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ed to intercept messages per-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s to modify object behavior on messag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Context Sink, Client Context S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ed to intercept messages per-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s to see, modify and possibly block all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Envoy S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ed by the server on the client side (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s to pre-scan messages before trans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parameter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queuing of multiple calls for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Attribute Driven Behaviour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32636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ontext Attribute: CallTrace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cepts all calls crossing the context bound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s methods and arguments to log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establish intercep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ty implements IContributeServerContextSi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ObjectSink() returns new IMessageSi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743200" y="4495680"/>
            <a:ext cx="2057400" cy="2057400"/>
            <a:chOff x="2743200" y="4495680"/>
            <a:chExt cx="2057400" cy="2057400"/>
          </a:xfrm>
        </p:grpSpPr>
        <p:sp>
          <p:nvSpPr>
            <p:cNvPr id="436" name=""/>
            <p:cNvSpPr/>
            <p:nvPr/>
          </p:nvSpPr>
          <p:spPr>
            <a:xfrm>
              <a:off x="2743200" y="4495680"/>
              <a:ext cx="2057400" cy="2057400"/>
            </a:xfrm>
            <a:prstGeom prst="rect">
              <a:avLst/>
            </a:prstGeom>
            <a:solidFill>
              <a:srgbClr val="618ffd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054600" y="4767840"/>
              <a:ext cx="1433880" cy="1512360"/>
            </a:xfrm>
            <a:prstGeom prst="flowChartAlternateProcess">
              <a:avLst/>
            </a:prstGeom>
            <a:solidFill>
              <a:srgbClr val="618ff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53200" y="5312520"/>
              <a:ext cx="436320" cy="423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92320" y="5271840"/>
              <a:ext cx="124560" cy="484200"/>
            </a:xfrm>
            <a:prstGeom prst="flowChartProcess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990720" y="4572000"/>
            <a:ext cx="1600200" cy="609480"/>
          </a:xfrm>
          <a:prstGeom prst="wedgeRectCallout">
            <a:avLst>
              <a:gd name="adj1" fmla="val 72319"/>
              <a:gd name="adj2" fmla="val 65884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ver Context Chai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1" name=""/>
          <p:cNvSpPr/>
          <p:nvPr/>
        </p:nvSpPr>
        <p:spPr>
          <a:xfrm>
            <a:off x="1752480" y="5486400"/>
            <a:ext cx="175284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"/>
          <p:cNvSpPr/>
          <p:nvPr/>
        </p:nvSpPr>
        <p:spPr>
          <a:xfrm>
            <a:off x="3657600" y="6095880"/>
            <a:ext cx="304920" cy="304920"/>
          </a:xfrm>
          <a:prstGeom prst="flowChartConnector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"/>
          <p:cNvSpPr/>
          <p:nvPr/>
        </p:nvSpPr>
        <p:spPr>
          <a:xfrm>
            <a:off x="990720" y="5867280"/>
            <a:ext cx="1600200" cy="609840"/>
          </a:xfrm>
          <a:prstGeom prst="wedgeRectCallout">
            <a:avLst>
              <a:gd name="adj1" fmla="val 108629"/>
              <a:gd name="adj2" fmla="val 17449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ontext Propert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"/>
          <p:cNvSpPr/>
          <p:nvPr/>
        </p:nvSpPr>
        <p:spPr>
          <a:xfrm flipH="1" rot="2787000">
            <a:off x="3085200" y="4914000"/>
            <a:ext cx="1600560" cy="761760"/>
          </a:xfrm>
          <a:custGeom>
            <a:avLst/>
            <a:gdLst>
              <a:gd name="textAreaLeft" fmla="*/ 333000 w 1600560"/>
              <a:gd name="textAreaRight" fmla="*/ 1107720 w 160056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88" hR="21600" stAng="10800000" swAng="5400000"/>
                <a:lnTo>
                  <a:pt x="10452" y="0"/>
                </a:lnTo>
                <a:arcTo wR="8988" hR="21600" stAng="-5400000" swAng="2790048"/>
                <a:lnTo>
                  <a:pt x="20972" y="13667"/>
                </a:lnTo>
                <a:lnTo>
                  <a:pt x="18708" y="21600"/>
                </a:lnTo>
                <a:lnTo>
                  <a:pt x="15188" y="13667"/>
                </a:lnTo>
                <a:lnTo>
                  <a:pt x="17348" y="13667"/>
                </a:lnTo>
                <a:arcTo wR="8988" hR="21600" stAng="-2609952" swAng="-2673204"/>
                <a:lnTo>
                  <a:pt x="9720" y="72"/>
                </a:lnTo>
                <a:arcTo wR="8988" hR="21600" stAng="-5516845" swAng="-5283155"/>
                <a:close/>
              </a:path>
              <a:path fill="darkenLess" w="21600" h="21600">
                <a:moveTo>
                  <a:pt x="0" y="21600"/>
                </a:moveTo>
                <a:arcTo wR="8988" hR="21600" stAng="10800000" swAng="5400000"/>
                <a:lnTo>
                  <a:pt x="8988" y="0"/>
                </a:lnTo>
                <a:arcTo wR="8988" hR="21600" stAng="-5400000" swAng="116845"/>
                <a:lnTo>
                  <a:pt x="9720" y="72"/>
                </a:lnTo>
                <a:arcTo wR="8988" hR="21600" stAng="-5516845" swAng="-5283155"/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5" name=""/>
          <p:cNvSpPr/>
          <p:nvPr/>
        </p:nvSpPr>
        <p:spPr>
          <a:xfrm>
            <a:off x="5286240" y="4714920"/>
            <a:ext cx="3143520" cy="1071360"/>
          </a:xfrm>
          <a:prstGeom prst="wedgeRoundRectCallout">
            <a:avLst>
              <a:gd name="adj1" fmla="val -76666"/>
              <a:gd name="adj2" fmla="val 9111"/>
              <a:gd name="adj3" fmla="val 16667"/>
            </a:avLst>
          </a:prstGeom>
          <a:solidFill>
            <a:srgbClr val="ffcc0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perty  contributes sink for server context chai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tandard Context Attribute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321680" cy="406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[Synchronization()]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chronized (serial) calls into context 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ls are queued at context bound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s to mimic the COM+ Apartment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+ Context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+ Context is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ound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or may not overlap with remoting 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relationship whatsoe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ongs to COM/Interop Services 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ontext Characteristic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41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Local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s any data to be associated with the 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Context.SetData(), Context.GetData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St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ContextStatic] static int q = 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c (class) member with per-context sco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the current context via Thread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hread.GetCurrentContex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88480" y="295200"/>
            <a:ext cx="825516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ection 4: Serving &amp; Accessing Object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265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ing Well-Know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ing Classes for Client-Side Activ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Remoting and Registering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ion an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Remoting Service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402680" cy="522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Runtime.Remoting.RemotingServices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fundamental remo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ng to remote object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ject marsh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.Runtime.Remoting.Remoting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rovides infrastructure for Remoting 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Runtime.Remoting.Channel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nel registration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Runtime.Remoting.Lifetime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se-based lifecycle management for 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Runtime.Remoting.Tracking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versal hooks for tracking remoting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Exposing Well-Known Object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74560"/>
            <a:ext cx="732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NET's activation model is very unlike COM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NET rather resembles CORBA model (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is no actively listening endpoint: no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urrogates, no registry, no location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 servers are not remotely activ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es Remoting grea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well-known object for clients to conn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und to known channels with known 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use static registration, prog-ids or class-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expose "single call" or "singleton"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ingle Call and Singleton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Single Call"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instance is created for each call on chan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s the stateless model of the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Singleton"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shared instance provided for all cl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es as "gateway" into stateful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is created at registration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ingConfigura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RegisterWellKnownService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KnownObjectMode.Single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KnownObjectMode.Single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  <a:ea typeface="Arial"/>
              </a:rPr>
              <a:t>Section 1: Overview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474560"/>
            <a:ext cx="7321680" cy="153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back: Remoting in COM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's wrong with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NET Remoting Cor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erver Setup Example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55640" y="6019920"/>
            <a:ext cx="7321680" cy="4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s and Objects are AppDomain-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33520" y="4724280"/>
            <a:ext cx="5638680" cy="1067040"/>
          </a:xfrm>
          <a:prstGeom prst="wedgeRectCallout">
            <a:avLst>
              <a:gd name="adj1" fmla="val 476"/>
              <a:gd name="adj2" fmla="val -88097"/>
            </a:avLst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sters the single-call endpoint: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myserver:8080/MyEndpointUR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1" name=""/>
          <p:cNvSpPr/>
          <p:nvPr/>
        </p:nvSpPr>
        <p:spPr>
          <a:xfrm>
            <a:off x="7238880" y="2057400"/>
            <a:ext cx="1524240" cy="914400"/>
          </a:xfrm>
          <a:prstGeom prst="wedgeRectCallout">
            <a:avLst>
              <a:gd name="adj1" fmla="val -91773"/>
              <a:gd name="adj2" fmla="val -38712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annel registr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2" name=""/>
          <p:cNvSpPr/>
          <p:nvPr/>
        </p:nvSpPr>
        <p:spPr>
          <a:xfrm>
            <a:off x="7238880" y="3429000"/>
            <a:ext cx="1524240" cy="914400"/>
          </a:xfrm>
          <a:prstGeom prst="wedgeRectCallout">
            <a:avLst>
              <a:gd name="adj1" fmla="val -101773"/>
              <a:gd name="adj2" fmla="val -5034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bject registr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"/>
          <p:cNvSpPr/>
          <p:nvPr/>
        </p:nvSpPr>
        <p:spPr>
          <a:xfrm>
            <a:off x="427320" y="1157400"/>
            <a:ext cx="6428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Console"/>
              </a:rPr>
              <a:t>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Console"/>
              </a:rPr>
              <a:t>Http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Channel chan = new </a:t>
            </a:r>
            <a:r>
              <a:rPr b="1" lang="de-DE" sz="2000" spc="-1" strike="noStrike">
                <a:solidFill>
                  <a:srgbClr val="000000"/>
                </a:solidFill>
                <a:latin typeface="Lucida Console"/>
              </a:rPr>
              <a:t>Http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Channel(808</a:t>
            </a:r>
            <a:r>
              <a:rPr b="1" lang="de-DE" sz="2000" spc="-1" strike="noStrike">
                <a:solidFill>
                  <a:srgbClr val="000000"/>
                </a:solidFill>
                <a:latin typeface="Lucida Console"/>
              </a:rPr>
              <a:t>0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ChannelServices.RegisterChannel(chan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RemotingConfiguration.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  RegisterWellKnownServiceType(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typeof(ServerClass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1" lang="de-DE" sz="2000" spc="-1" strike="noStrike">
                <a:solidFill>
                  <a:srgbClr val="000000"/>
                </a:solidFill>
                <a:latin typeface="Lucida Console"/>
              </a:rPr>
              <a:t>MyEndpointURI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"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WellKnownObjectMode.SingleCall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lient-Side Activation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321680" cy="49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-Side Activation similar to 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 requests creation of remote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e difference: Server must be ru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Side Implem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registered with RemotingConfiguration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ingConfiguration.RegisterActivatedServiceTyp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ntime creates objects on client requ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ide Implem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created through Activator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ly: Configuration and language b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creating remote objects using "new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Object Activation and Connection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474560"/>
            <a:ext cx="7321680" cy="399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ivator (System.Activ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s or connects local and remote 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Activator.CreateInstanc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client activated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Activator.Get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s to well-known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ing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 – lower level connect to remote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: Activator uses Remoting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8600" y="4419720"/>
            <a:ext cx="2971800" cy="1676160"/>
          </a:xfrm>
          <a:prstGeom prst="flowChartDocumen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o = Activator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GetObject("http://..."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o.methodCall()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Activation illustrated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70" name=""/>
          <p:cNvSpPr/>
          <p:nvPr/>
        </p:nvSpPr>
        <p:spPr>
          <a:xfrm>
            <a:off x="5911920" y="4468680"/>
            <a:ext cx="131760" cy="1173240"/>
          </a:xfrm>
          <a:prstGeom prst="rect">
            <a:avLst/>
          </a:prstGeom>
          <a:solidFill>
            <a:srgbClr val="a5002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"/>
          <p:cNvSpPr/>
          <p:nvPr/>
        </p:nvSpPr>
        <p:spPr>
          <a:xfrm>
            <a:off x="4815000" y="2533680"/>
            <a:ext cx="4038480" cy="3333600"/>
          </a:xfrm>
          <a:prstGeom prst="rect">
            <a:avLst/>
          </a:prstGeom>
          <a:solidFill>
            <a:srgbClr val="618ffd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ppDomai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"/>
          <p:cNvSpPr/>
          <p:nvPr/>
        </p:nvSpPr>
        <p:spPr>
          <a:xfrm>
            <a:off x="5195880" y="3753000"/>
            <a:ext cx="1628640" cy="1888920"/>
          </a:xfrm>
          <a:custGeom>
            <a:avLst/>
            <a:gdLst>
              <a:gd name="textAreaLeft" fmla="*/ 79200 w 1628640"/>
              <a:gd name="textAreaRight" fmla="*/ 1549440 w 1628640"/>
              <a:gd name="textAreaTop" fmla="*/ 79200 h 1888920"/>
              <a:gd name="textAreaBottom" fmla="*/ 1809720 h 1888920"/>
            </a:gdLst>
            <a:ahLst/>
            <a:rect l="textAreaLeft" t="textAreaTop" r="textAreaRight" b="textAreaBottom"/>
            <a:pathLst>
              <a:path w="21600" h="25051">
                <a:moveTo>
                  <a:pt x="3600" y="0"/>
                </a:moveTo>
                <a:arcTo wR="3600" hR="3600" stAng="16200000" swAng="-5400000"/>
                <a:lnTo>
                  <a:pt x="0" y="21451"/>
                </a:lnTo>
                <a:arcTo wR="3600" hR="3600" stAng="10800000" swAng="-5400000"/>
                <a:lnTo>
                  <a:pt x="18000" y="25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3" name=""/>
          <p:cNvSpPr/>
          <p:nvPr/>
        </p:nvSpPr>
        <p:spPr>
          <a:xfrm>
            <a:off x="5651640" y="4208400"/>
            <a:ext cx="717480" cy="52236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4" name=""/>
          <p:cNvSpPr/>
          <p:nvPr/>
        </p:nvSpPr>
        <p:spPr>
          <a:xfrm>
            <a:off x="7354800" y="4208400"/>
            <a:ext cx="717480" cy="52236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5" name=""/>
          <p:cNvSpPr/>
          <p:nvPr/>
        </p:nvSpPr>
        <p:spPr>
          <a:xfrm>
            <a:off x="5846760" y="4861080"/>
            <a:ext cx="717480" cy="52056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"/>
          <p:cNvSpPr/>
          <p:nvPr/>
        </p:nvSpPr>
        <p:spPr>
          <a:xfrm>
            <a:off x="7710480" y="4896000"/>
            <a:ext cx="717480" cy="52056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477" name=""/>
          <p:cNvCxnSpPr>
            <a:stCxn id="473" idx="1"/>
            <a:endCxn id="475" idx="1"/>
          </p:cNvCxnSpPr>
          <p:nvPr/>
        </p:nvCxnSpPr>
        <p:spPr>
          <a:xfrm flipH="1" flipV="1" rot="10800000">
            <a:off x="5626440" y="4467600"/>
            <a:ext cx="196200" cy="653400"/>
          </a:xfrm>
          <a:prstGeom prst="curvedConnector5">
            <a:avLst>
              <a:gd name="adj1" fmla="val -87500"/>
              <a:gd name="adj2" fmla="val 50000"/>
              <a:gd name="adj3" fmla="val -87500"/>
            </a:avLst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478" name=""/>
          <p:cNvCxnSpPr>
            <a:stCxn id="474" idx="3"/>
            <a:endCxn id="476" idx="1"/>
          </p:cNvCxnSpPr>
          <p:nvPr/>
        </p:nvCxnSpPr>
        <p:spPr>
          <a:xfrm flipH="1">
            <a:off x="7681680" y="4470120"/>
            <a:ext cx="419760" cy="686520"/>
          </a:xfrm>
          <a:prstGeom prst="curvedConnector5">
            <a:avLst>
              <a:gd name="adj1" fmla="val -47725"/>
              <a:gd name="adj2" fmla="val 24973"/>
              <a:gd name="adj3" fmla="val -47725"/>
            </a:avLst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545080" y="5506920"/>
            <a:ext cx="228600" cy="228600"/>
          </a:xfrm>
          <a:prstGeom prst="flowChartConnector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0" name=""/>
          <p:cNvSpPr/>
          <p:nvPr/>
        </p:nvSpPr>
        <p:spPr>
          <a:xfrm>
            <a:off x="5850000" y="5506920"/>
            <a:ext cx="228600" cy="228600"/>
          </a:xfrm>
          <a:prstGeom prst="flowChartConnector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"/>
          <p:cNvSpPr/>
          <p:nvPr/>
        </p:nvSpPr>
        <p:spPr>
          <a:xfrm>
            <a:off x="6154560" y="5506920"/>
            <a:ext cx="228600" cy="228600"/>
          </a:xfrm>
          <a:prstGeom prst="flowChartConnector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"/>
          <p:cNvSpPr/>
          <p:nvPr/>
        </p:nvSpPr>
        <p:spPr>
          <a:xfrm>
            <a:off x="7253280" y="1619280"/>
            <a:ext cx="762120" cy="1028520"/>
          </a:xfrm>
          <a:prstGeom prst="flowChartMagneticDisk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CP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850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3" name=""/>
          <p:cNvSpPr/>
          <p:nvPr/>
        </p:nvSpPr>
        <p:spPr>
          <a:xfrm>
            <a:off x="5576760" y="1619280"/>
            <a:ext cx="762120" cy="1028520"/>
          </a:xfrm>
          <a:prstGeom prst="flowChartMagneticDisk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TTP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8080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4" name=""/>
          <p:cNvSpPr/>
          <p:nvPr/>
        </p:nvSpPr>
        <p:spPr>
          <a:xfrm>
            <a:off x="4967280" y="2685960"/>
            <a:ext cx="3733920" cy="762120"/>
          </a:xfrm>
          <a:prstGeom prst="flowChartProcess">
            <a:avLst/>
          </a:pr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Identity Tabl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5" name=""/>
          <p:cNvSpPr/>
          <p:nvPr/>
        </p:nvSpPr>
        <p:spPr>
          <a:xfrm>
            <a:off x="5043600" y="3067200"/>
            <a:ext cx="685800" cy="30456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6" name=""/>
          <p:cNvSpPr/>
          <p:nvPr/>
        </p:nvSpPr>
        <p:spPr>
          <a:xfrm>
            <a:off x="5983200" y="3067200"/>
            <a:ext cx="685800" cy="30456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B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7" name=""/>
          <p:cNvSpPr/>
          <p:nvPr/>
        </p:nvSpPr>
        <p:spPr>
          <a:xfrm>
            <a:off x="6923160" y="3067200"/>
            <a:ext cx="685800" cy="30456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C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8" name=""/>
          <p:cNvSpPr/>
          <p:nvPr/>
        </p:nvSpPr>
        <p:spPr>
          <a:xfrm>
            <a:off x="7862760" y="3067200"/>
            <a:ext cx="685800" cy="30456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489" name=""/>
          <p:cNvCxnSpPr>
            <a:stCxn id="485" idx="2"/>
            <a:endCxn id="473" idx="0"/>
          </p:cNvCxnSpPr>
          <p:nvPr/>
        </p:nvCxnSpPr>
        <p:spPr>
          <a:xfrm flipH="1" rot="16200000">
            <a:off x="5293080" y="3463560"/>
            <a:ext cx="808920" cy="624600"/>
          </a:xfrm>
          <a:prstGeom prst="curvedConnector5">
            <a:avLst>
              <a:gd name="adj1" fmla="val 51647"/>
              <a:gd name="adj2" fmla="val 50000"/>
              <a:gd name="adj3" fmla="val 51647"/>
            </a:avLst>
          </a:prstGeom>
          <a:ln cap="rnd" w="76320">
            <a:solidFill>
              <a:srgbClr val="a50021"/>
            </a:solidFill>
            <a:custDash>
              <a:ds d="100000" sp="1000"/>
            </a:custDash>
            <a:miter/>
          </a:ln>
        </p:spPr>
      </p:cxnSp>
      <p:cxnSp>
        <p:nvCxnSpPr>
          <p:cNvPr id="490" name=""/>
          <p:cNvCxnSpPr>
            <a:stCxn id="486" idx="2"/>
            <a:endCxn id="475" idx="3"/>
          </p:cNvCxnSpPr>
          <p:nvPr/>
        </p:nvCxnSpPr>
        <p:spPr>
          <a:xfrm flipH="1" rot="16200000">
            <a:off x="5583600" y="4113000"/>
            <a:ext cx="1750320" cy="267120"/>
          </a:xfrm>
          <a:prstGeom prst="curvedConnector5">
            <a:avLst>
              <a:gd name="adj1" fmla="val 42542"/>
              <a:gd name="adj2" fmla="val 87584"/>
              <a:gd name="adj3" fmla="val 42542"/>
            </a:avLst>
          </a:prstGeom>
          <a:ln cap="rnd" w="76320">
            <a:solidFill>
              <a:srgbClr val="a50021"/>
            </a:solidFill>
            <a:custDash>
              <a:ds d="100000" sp="1000"/>
            </a:custDash>
            <a:miter/>
          </a:ln>
        </p:spPr>
      </p:cxnSp>
      <p:cxnSp>
        <p:nvCxnSpPr>
          <p:cNvPr id="491" name=""/>
          <p:cNvCxnSpPr>
            <a:stCxn id="488" idx="2"/>
            <a:endCxn id="476" idx="3"/>
          </p:cNvCxnSpPr>
          <p:nvPr/>
        </p:nvCxnSpPr>
        <p:spPr>
          <a:xfrm flipH="1" rot="16200000">
            <a:off x="7437960" y="4138200"/>
            <a:ext cx="1785240" cy="251640"/>
          </a:xfrm>
          <a:prstGeom prst="curvedConnector5">
            <a:avLst>
              <a:gd name="adj1" fmla="val 42698"/>
              <a:gd name="adj2" fmla="val 89828"/>
              <a:gd name="adj3" fmla="val 42698"/>
            </a:avLst>
          </a:prstGeom>
          <a:ln cap="rnd" w="76320">
            <a:solidFill>
              <a:srgbClr val="a50021"/>
            </a:solidFill>
            <a:custDash>
              <a:ds d="100000" sp="1000"/>
            </a:custDash>
            <a:miter/>
          </a:ln>
        </p:spPr>
      </p:cxnSp>
      <p:cxnSp>
        <p:nvCxnSpPr>
          <p:cNvPr id="492" name=""/>
          <p:cNvCxnSpPr>
            <a:stCxn id="487" idx="2"/>
            <a:endCxn id="474" idx="0"/>
          </p:cNvCxnSpPr>
          <p:nvPr/>
        </p:nvCxnSpPr>
        <p:spPr>
          <a:xfrm flipH="1" rot="16200000">
            <a:off x="7085520" y="3551400"/>
            <a:ext cx="808920" cy="448560"/>
          </a:xfrm>
          <a:prstGeom prst="curvedConnector5">
            <a:avLst>
              <a:gd name="adj1" fmla="val 51647"/>
              <a:gd name="adj2" fmla="val 49959"/>
              <a:gd name="adj3" fmla="val 51647"/>
            </a:avLst>
          </a:prstGeom>
          <a:ln cap="rnd" w="76320">
            <a:solidFill>
              <a:srgbClr val="a50021"/>
            </a:solidFill>
            <a:custDash>
              <a:ds d="100000" sp="1000"/>
            </a:custDash>
            <a:miter/>
          </a:ln>
        </p:spPr>
      </p:cxnSp>
      <p:sp>
        <p:nvSpPr>
          <p:cNvPr id="493" name=""/>
          <p:cNvSpPr/>
          <p:nvPr/>
        </p:nvSpPr>
        <p:spPr>
          <a:xfrm>
            <a:off x="2667960" y="1027800"/>
            <a:ext cx="3198240" cy="36828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tcp://server:8501/uri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4" name=""/>
          <p:cNvSpPr/>
          <p:nvPr/>
        </p:nvSpPr>
        <p:spPr>
          <a:xfrm>
            <a:off x="1920960" y="1324800"/>
            <a:ext cx="3335400" cy="368280"/>
          </a:xfrm>
          <a:prstGeom prst="flowChartProcess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http://server:8080/uriB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495" name=""/>
          <p:cNvCxnSpPr>
            <a:stCxn id="493" idx="3"/>
          </p:cNvCxnSpPr>
          <p:nvPr/>
        </p:nvCxnSpPr>
        <p:spPr>
          <a:xfrm>
            <a:off x="5881680" y="1212840"/>
            <a:ext cx="1797840" cy="565920"/>
          </a:xfrm>
          <a:prstGeom prst="curvedConnector5">
            <a:avLst>
              <a:gd name="adj1" fmla="val 49989"/>
              <a:gd name="adj2" fmla="val 49968"/>
              <a:gd name="adj3" fmla="val 49989"/>
            </a:avLst>
          </a:prstGeom>
          <a:ln w="50760">
            <a:solidFill>
              <a:srgbClr val="a50021"/>
            </a:solidFill>
            <a:miter/>
            <a:headEnd len="med" type="oval" w="med"/>
            <a:tailEnd len="med" type="oval" w="med"/>
          </a:ln>
        </p:spPr>
      </p:cxnSp>
      <p:cxnSp>
        <p:nvCxnSpPr>
          <p:cNvPr id="496" name=""/>
          <p:cNvCxnSpPr>
            <a:stCxn id="494" idx="3"/>
          </p:cNvCxnSpPr>
          <p:nvPr/>
        </p:nvCxnSpPr>
        <p:spPr>
          <a:xfrm>
            <a:off x="5272200" y="1509480"/>
            <a:ext cx="668880" cy="27036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50760">
            <a:solidFill>
              <a:srgbClr val="a50021"/>
            </a:solidFill>
            <a:miter/>
            <a:headEnd len="med" type="oval" w="med"/>
            <a:tailEnd len="med" type="oval" w="med"/>
          </a:ln>
        </p:spPr>
      </p:cxnSp>
      <p:cxnSp>
        <p:nvCxnSpPr>
          <p:cNvPr id="497" name=""/>
          <p:cNvCxnSpPr>
            <a:stCxn id="482" idx="3"/>
            <a:endCxn id="488" idx="0"/>
          </p:cNvCxnSpPr>
          <p:nvPr/>
        </p:nvCxnSpPr>
        <p:spPr>
          <a:xfrm flipH="1" rot="16200000">
            <a:off x="7710120" y="2571120"/>
            <a:ext cx="420120" cy="57240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50760">
            <a:solidFill>
              <a:srgbClr val="a50021"/>
            </a:solidFill>
            <a:miter/>
            <a:tailEnd len="med" type="oval" w="med"/>
          </a:ln>
        </p:spPr>
      </p:cxnSp>
      <p:cxnSp>
        <p:nvCxnSpPr>
          <p:cNvPr id="498" name=""/>
          <p:cNvCxnSpPr>
            <a:stCxn id="483" idx="3"/>
            <a:endCxn id="486" idx="3"/>
          </p:cNvCxnSpPr>
          <p:nvPr/>
        </p:nvCxnSpPr>
        <p:spPr>
          <a:xfrm flipH="1" rot="16200000">
            <a:off x="6026760" y="2577960"/>
            <a:ext cx="572400" cy="711720"/>
          </a:xfrm>
          <a:prstGeom prst="curvedConnector5">
            <a:avLst>
              <a:gd name="adj1" fmla="val 19949"/>
              <a:gd name="adj2" fmla="val 66042"/>
              <a:gd name="adj3" fmla="val 19949"/>
            </a:avLst>
          </a:prstGeom>
          <a:ln w="50760">
            <a:solidFill>
              <a:srgbClr val="a50021"/>
            </a:solidFill>
            <a:miter/>
            <a:tailEnd len="med" type="oval" w="med"/>
          </a:ln>
        </p:spPr>
      </p:cxnSp>
      <p:sp>
        <p:nvSpPr>
          <p:cNvPr id="499" name=""/>
          <p:cNvSpPr/>
          <p:nvPr/>
        </p:nvSpPr>
        <p:spPr>
          <a:xfrm>
            <a:off x="685800" y="2133720"/>
            <a:ext cx="3733920" cy="380880"/>
          </a:xfrm>
          <a:prstGeom prst="flowChartProcess">
            <a:avLst/>
          </a:pr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RemotingServices.Connect(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2819520"/>
            <a:ext cx="3733920" cy="380880"/>
          </a:xfrm>
          <a:prstGeom prst="flowChartProcess">
            <a:avLst/>
          </a:pr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ctivator.GetObject(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1" name=""/>
          <p:cNvSpPr/>
          <p:nvPr/>
        </p:nvSpPr>
        <p:spPr>
          <a:xfrm>
            <a:off x="3200400" y="3429000"/>
            <a:ext cx="1219320" cy="762120"/>
          </a:xfrm>
          <a:prstGeom prst="flowChartProcess">
            <a:avLst/>
          </a:prstGeom>
          <a:solidFill>
            <a:srgbClr val="618ff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Language</a:t>
            </a:r>
            <a:br>
              <a:rPr sz="16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502" name=""/>
          <p:cNvCxnSpPr>
            <a:stCxn id="499" idx="0"/>
            <a:endCxn id="494" idx="1"/>
          </p:cNvCxnSpPr>
          <p:nvPr/>
        </p:nvCxnSpPr>
        <p:spPr>
          <a:xfrm flipV="1" rot="16200000">
            <a:off x="1916280" y="1497240"/>
            <a:ext cx="624600" cy="648360"/>
          </a:xfrm>
          <a:prstGeom prst="bentConnector4">
            <a:avLst>
              <a:gd name="adj1" fmla="val 35063"/>
              <a:gd name="adj2" fmla="val 135277"/>
            </a:avLst>
          </a:prstGeom>
          <a:ln w="507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03" name=""/>
          <p:cNvCxnSpPr>
            <a:stCxn id="500" idx="0"/>
            <a:endCxn id="499" idx="2"/>
          </p:cNvCxnSpPr>
          <p:nvPr/>
        </p:nvCxnSpPr>
        <p:spPr>
          <a:xfrm flipV="1">
            <a:off x="2552400" y="2513880"/>
            <a:ext cx="1080" cy="305640"/>
          </a:xfrm>
          <a:prstGeom prst="bentConnector2">
            <a:avLst/>
          </a:prstGeom>
          <a:ln w="507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501" idx="1"/>
            <a:endCxn id="500" idx="2"/>
          </p:cNvCxnSpPr>
          <p:nvPr/>
        </p:nvCxnSpPr>
        <p:spPr>
          <a:xfrm rot="10800000">
            <a:off x="2552040" y="3199680"/>
            <a:ext cx="648360" cy="610200"/>
          </a:xfrm>
          <a:prstGeom prst="bentConnector2">
            <a:avLst/>
          </a:prstGeom>
          <a:ln w="50760">
            <a:solidFill>
              <a:srgbClr val="a50021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2209680" y="5334120"/>
            <a:ext cx="2362320" cy="1295280"/>
          </a:xfrm>
          <a:prstGeom prst="flowChartDocumen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o = new myClass()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o.methodCall()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506" name=""/>
          <p:cNvCxnSpPr>
            <a:endCxn id="501" idx="2"/>
          </p:cNvCxnSpPr>
          <p:nvPr/>
        </p:nvCxnSpPr>
        <p:spPr>
          <a:xfrm flipV="1">
            <a:off x="3801960" y="4190760"/>
            <a:ext cx="8640" cy="1219680"/>
          </a:xfrm>
          <a:prstGeom prst="straightConnector1">
            <a:avLst/>
          </a:prstGeom>
          <a:ln w="507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68" idx="0"/>
            <a:endCxn id="500" idx="2"/>
          </p:cNvCxnSpPr>
          <p:nvPr/>
        </p:nvCxnSpPr>
        <p:spPr>
          <a:xfrm flipH="1" flipV="1" rot="5400000">
            <a:off x="1523880" y="3390480"/>
            <a:ext cx="1220040" cy="838800"/>
          </a:xfrm>
          <a:prstGeom prst="bentConnector3">
            <a:avLst>
              <a:gd name="adj1" fmla="val 50000"/>
            </a:avLst>
          </a:prstGeom>
          <a:ln w="50760">
            <a:solidFill>
              <a:srgbClr val="a50021"/>
            </a:solidFill>
            <a:miter/>
            <a:tailEnd len="med" type="triangle" w="med"/>
          </a:ln>
        </p:spPr>
      </p:cxn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onfiguring Remoting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474560"/>
            <a:ext cx="7321680" cy="451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ing Configuration Architecture en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endpoints at installation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known ports, full control for administ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tion component distribution by 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can define which classes are remote or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is file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tegrated with .NET configuration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However: Must explicitly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72800">
              <a:spcBef>
                <a:spcPts val="901"/>
              </a:spcBef>
              <a:buClr>
                <a:srgbClr val="a500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motingConfiguration.Configure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“filename“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es most details of Remoting show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66ff"/>
                </a:solidFill>
                <a:latin typeface="Arial Narrow"/>
              </a:rPr>
              <a:t>Server System Configuration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11" name=""/>
          <p:cNvSpPr/>
          <p:nvPr/>
        </p:nvSpPr>
        <p:spPr>
          <a:xfrm>
            <a:off x="324000" y="1309680"/>
            <a:ext cx="8532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ystem.runtime.remoting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&lt;channels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hannel id="http“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type="System.Runtime.Remoting.Channels.Http.HttpChannel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System.Runtime.Remoting" /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&lt;/channels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&lt;channelSinkProviders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erverProviders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formatter id="soap“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type="System.Runtime.Remoting.Channels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SoapServerFormatterSinkProvider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System.Runtime.Remoting" /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&lt;/serverProviders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&lt;/channelSinkProviders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&lt;/system.runtime.remoting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onfiguration&gt;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2" name=""/>
          <p:cNvSpPr/>
          <p:nvPr/>
        </p:nvSpPr>
        <p:spPr>
          <a:xfrm>
            <a:off x="5219640" y="1309680"/>
            <a:ext cx="2357640" cy="714240"/>
          </a:xfrm>
          <a:prstGeom prst="wedgeRoundRectCallout">
            <a:avLst>
              <a:gd name="adj1" fmla="val -129865"/>
              <a:gd name="adj2" fmla="val 78000"/>
              <a:gd name="adj3" fmla="val 16667"/>
            </a:avLst>
          </a:prstGeom>
          <a:solidFill>
            <a:srgbClr val="ffcc0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clare chann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3" name=""/>
          <p:cNvSpPr/>
          <p:nvPr/>
        </p:nvSpPr>
        <p:spPr>
          <a:xfrm>
            <a:off x="4680000" y="5378400"/>
            <a:ext cx="2357280" cy="714600"/>
          </a:xfrm>
          <a:prstGeom prst="wedgeRoundRectCallout">
            <a:avLst>
              <a:gd name="adj1" fmla="val -62662"/>
              <a:gd name="adj2" fmla="val -149777"/>
              <a:gd name="adj3" fmla="val 16667"/>
            </a:avLst>
          </a:prstGeom>
          <a:solidFill>
            <a:srgbClr val="ffcc0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cify formatter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66ff"/>
                </a:solidFill>
                <a:latin typeface="Arial Narrow"/>
              </a:rPr>
              <a:t>Server Application Configuration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15" name=""/>
          <p:cNvSpPr/>
          <p:nvPr/>
        </p:nvSpPr>
        <p:spPr>
          <a:xfrm>
            <a:off x="684360" y="1168560"/>
            <a:ext cx="7848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ystem.runtime.remoting&gt;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pplication name="MyFoo"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ervice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wellknown type="Foo, common“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objectUri="Foo.soap“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mode="Singleton" /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hannels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hannel ref="http“ name="MyHttpChannel" port="9000"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erverProviders&gt;       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formatter ref="soap" /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serverProviders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hannel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hannels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application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system.runtime.remoting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6" name=""/>
          <p:cNvSpPr/>
          <p:nvPr/>
        </p:nvSpPr>
        <p:spPr>
          <a:xfrm>
            <a:off x="6480000" y="4257720"/>
            <a:ext cx="2357640" cy="714240"/>
          </a:xfrm>
          <a:prstGeom prst="wedgeRoundRectCallout">
            <a:avLst>
              <a:gd name="adj1" fmla="val -100236"/>
              <a:gd name="adj2" fmla="val -112888"/>
              <a:gd name="adj3" fmla="val 16667"/>
            </a:avLst>
          </a:prstGeom>
          <a:solidFill>
            <a:srgbClr val="ffcc0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sociate channel with applic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"/>
          <p:cNvSpPr/>
          <p:nvPr/>
        </p:nvSpPr>
        <p:spPr>
          <a:xfrm>
            <a:off x="5651640" y="2349360"/>
            <a:ext cx="2357280" cy="714600"/>
          </a:xfrm>
          <a:prstGeom prst="wedgeRoundRectCallout">
            <a:avLst>
              <a:gd name="adj1" fmla="val -71685"/>
              <a:gd name="adj2" fmla="val -51333"/>
              <a:gd name="adj3" fmla="val 16667"/>
            </a:avLst>
          </a:prstGeom>
          <a:solidFill>
            <a:srgbClr val="ffcc0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clare singleton service endpoin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"/>
          <p:cNvSpPr/>
          <p:nvPr/>
        </p:nvSpPr>
        <p:spPr>
          <a:xfrm>
            <a:off x="5184720" y="5373720"/>
            <a:ext cx="2357640" cy="714240"/>
          </a:xfrm>
          <a:prstGeom prst="wedgeRoundRectCallout">
            <a:avLst>
              <a:gd name="adj1" fmla="val -85083"/>
              <a:gd name="adj2" fmla="val -227333"/>
              <a:gd name="adj3" fmla="val 16667"/>
            </a:avLst>
          </a:prstGeom>
          <a:solidFill>
            <a:srgbClr val="ffcc0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sociate formatter with chann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ection 5: Putting It Together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97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Attributes and Int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Variations of Objects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1/2</a:t>
            </a:r>
            <a:endParaRPr b="1" lang="en-US" sz="2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425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le (never marshal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ublic class MySimpleObje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public MySimpleObject() {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5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le (marshal-by-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serializable]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ublic class MySimpleObje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public MySimpleObject() {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Variations of Objects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2/2</a:t>
            </a:r>
            <a:endParaRPr b="1" lang="en-US" sz="2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474920"/>
            <a:ext cx="7321680" cy="48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le (marshal-by-ref, AppDomain-b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ublic class MySimpleObject 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           MarshalByRefObje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public MySimpleObject() {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5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-bound (marshal-by-r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CallTrace()]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ublic class MySimpleObject 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         ContextBoundObje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public MySimpleObject() {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  <a:ea typeface="Arial"/>
              </a:rPr>
              <a:t>Looking Back: Remoting in COM(+)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474560"/>
            <a:ext cx="7321680" cy="48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l Objects implement IUnknown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 exploration of object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ifecycle control with reference coun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COM: Object-RPC based on DCE Wir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shaling through MIDL generated Proxies/Stu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ion: Dynamic binding through IDisp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vers locally advertised in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tivation "on-demand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rvers launched at client requ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s created through class fac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ontext Attributes &amp; Interception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1/3</a:t>
            </a:r>
            <a:endParaRPr b="1" lang="en-US" sz="2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62120" y="1474920"/>
            <a:ext cx="8153280" cy="4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Context 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696080" y="2362320"/>
            <a:ext cx="1219320" cy="1447560"/>
          </a:xfrm>
          <a:prstGeom prst="wedgeRectCallout">
            <a:avLst>
              <a:gd name="adj1" fmla="val -408333"/>
              <a:gd name="adj2" fmla="val 91337"/>
            </a:avLst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rces new contex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8" name=""/>
          <p:cNvSpPr/>
          <p:nvPr/>
        </p:nvSpPr>
        <p:spPr>
          <a:xfrm>
            <a:off x="7696080" y="4114800"/>
            <a:ext cx="1219320" cy="1066680"/>
          </a:xfrm>
          <a:prstGeom prst="wedgeRectCallout">
            <a:avLst>
              <a:gd name="adj1" fmla="val -262240"/>
              <a:gd name="adj2" fmla="val 111013"/>
            </a:avLst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all proper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"/>
          <p:cNvSpPr/>
          <p:nvPr/>
        </p:nvSpPr>
        <p:spPr>
          <a:xfrm>
            <a:off x="533520" y="2057400"/>
            <a:ext cx="83818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blic class CallTraceAttribute : </a:t>
            </a: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ContextAttribut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public CallTraceAttribute()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base(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"CallTraceAttribute"</a:t>
            </a: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public override bool </a:t>
            </a: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IsContextOK(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text ctx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               IConstructionCallMessage ctorMsg</a:t>
            </a: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return fals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public override void </a:t>
            </a: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GetPropertiesForNewContext(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               IConstructionCallMessage ctorMsg</a:t>
            </a: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CallTraceProperty prop = new CallTraceProperty(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ctorMsg.ContextProperties.Add(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rop</a:t>
            </a: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}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7696080" y="4267080"/>
            <a:ext cx="1219320" cy="1143000"/>
          </a:xfrm>
          <a:prstGeom prst="wedgeRectCallout">
            <a:avLst>
              <a:gd name="adj1" fmla="val -247657"/>
              <a:gd name="adj2" fmla="val 64305"/>
            </a:avLst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alls sink on runtime request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ontext Attributes &amp; Interception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2/3</a:t>
            </a:r>
            <a:endParaRPr b="1" lang="en-US" sz="2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474920"/>
            <a:ext cx="8153280" cy="4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Context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33520" y="2057400"/>
            <a:ext cx="838188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blic class CallTraceProperty : </a:t>
            </a: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IContextProperty,</a:t>
            </a:r>
            <a:br>
              <a:rPr sz="1600"/>
            </a:b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                                 </a:t>
            </a:r>
            <a:r>
              <a:rPr b="1" lang="en-US" sz="1600" spc="-1" strike="noStrike">
                <a:solidFill>
                  <a:srgbClr val="a50021"/>
                </a:solidFill>
                <a:latin typeface="Lucida Console"/>
              </a:rPr>
              <a:t>IContributeServerContextSink</a:t>
            </a:r>
            <a:r>
              <a:rPr b="1" lang="en-US" sz="1600" spc="-1" strike="noStrike">
                <a:solidFill>
                  <a:srgbClr val="0066ff"/>
                </a:solidFill>
                <a:latin typeface="Lucida Console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ublic String </a:t>
            </a:r>
            <a:r>
              <a:rPr b="1" lang="en-GB" sz="1600" spc="-1" strike="noStrike">
                <a:solidFill>
                  <a:srgbClr val="0066ff"/>
                </a:solidFill>
                <a:latin typeface="Lucida Console"/>
              </a:rPr>
              <a:t>Name</a:t>
            </a: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{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get {</a:t>
            </a: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return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"CallTraceProperty"; }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ublic virtual bool </a:t>
            </a:r>
            <a:r>
              <a:rPr b="1" lang="en-GB" sz="1600" spc="-1" strike="noStrike">
                <a:solidFill>
                  <a:srgbClr val="0066ff"/>
                </a:solidFill>
                <a:latin typeface="Lucida Console"/>
              </a:rPr>
              <a:t>IsNewContextOK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(Context newCtx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return true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ublic virtual void </a:t>
            </a:r>
            <a:r>
              <a:rPr b="1" lang="en-GB" sz="1600" spc="-1" strike="noStrike">
                <a:solidFill>
                  <a:srgbClr val="0066ff"/>
                </a:solidFill>
                <a:latin typeface="Lucida Console"/>
              </a:rPr>
              <a:t>Freeze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(Context newContext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ublic IMessageSink </a:t>
            </a:r>
            <a:r>
              <a:rPr b="1" lang="en-GB" sz="1600" spc="-1" strike="noStrike">
                <a:solidFill>
                  <a:srgbClr val="a50021"/>
                </a:solidFill>
                <a:latin typeface="Lucida Console"/>
              </a:rPr>
              <a:t>Get</a:t>
            </a:r>
            <a:r>
              <a:rPr b="1" lang="de-DE" sz="1600" spc="-1" strike="noStrike">
                <a:solidFill>
                  <a:srgbClr val="a50021"/>
                </a:solidFill>
                <a:latin typeface="Lucida Console"/>
              </a:rPr>
              <a:t>ServerContext</a:t>
            </a:r>
            <a:r>
              <a:rPr b="1" lang="en-GB" sz="1600" spc="-1" strike="noStrike">
                <a:solidFill>
                  <a:srgbClr val="a50021"/>
                </a:solidFill>
                <a:latin typeface="Lucida Console"/>
              </a:rPr>
              <a:t>Sink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(IMessageSink next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return new </a:t>
            </a: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CallTraceObject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Sink(this, next)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}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4" name=""/>
          <p:cNvSpPr/>
          <p:nvPr/>
        </p:nvSpPr>
        <p:spPr>
          <a:xfrm>
            <a:off x="7696080" y="2705040"/>
            <a:ext cx="1219320" cy="1447920"/>
          </a:xfrm>
          <a:prstGeom prst="wedgeRectCallout">
            <a:avLst>
              <a:gd name="adj1" fmla="val -403907"/>
              <a:gd name="adj2" fmla="val 44736"/>
            </a:avLst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alled props check contex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Context Attributes &amp; Interception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3/3</a:t>
            </a:r>
            <a:endParaRPr b="1" lang="en-US" sz="2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61760" y="1474920"/>
            <a:ext cx="7321320" cy="4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Message S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80880" y="1965240"/>
            <a:ext cx="838224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ublic class CallTraceObjectSink : </a:t>
            </a:r>
            <a:r>
              <a:rPr b="1" lang="en-GB" sz="1600" spc="-1" strike="noStrike">
                <a:solidFill>
                  <a:srgbClr val="0066ff"/>
                </a:solidFill>
                <a:latin typeface="Lucida Console"/>
              </a:rPr>
              <a:t>IMessageSink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rivate IMessageSink _nextSink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ublic CallTraceObjectSink(CallTraceProperty prop,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   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IMessageSink nextSink)</a:t>
            </a: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_nextSink = nextSink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ublic IMessage </a:t>
            </a:r>
            <a:r>
              <a:rPr b="1" lang="en-GB" sz="1600" spc="-1" strike="noStrike">
                <a:solidFill>
                  <a:srgbClr val="0066ff"/>
                </a:solidFill>
                <a:latin typeface="Lucida Console"/>
              </a:rPr>
              <a:t>SyncProcessMessage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(IMessage reqMsg)</a:t>
            </a: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GB" sz="1600" spc="-1" strike="noStrike">
                <a:solidFill>
                  <a:srgbClr val="a50021"/>
                </a:solidFill>
                <a:latin typeface="Lucida Console"/>
              </a:rPr>
              <a:t>foreach( object o in reqMsg.Properties)</a:t>
            </a:r>
            <a:r>
              <a:rPr b="1" lang="de-DE" sz="1600" spc="-1" strike="noStrike">
                <a:solidFill>
                  <a:srgbClr val="a50021"/>
                </a:solidFill>
                <a:latin typeface="Lucida Console"/>
              </a:rPr>
              <a:t> </a:t>
            </a:r>
            <a:r>
              <a:rPr b="1" lang="en-GB" sz="1600" spc="-1" strike="noStrike">
                <a:solidFill>
                  <a:srgbClr val="a50021"/>
                </a:solidFill>
                <a:latin typeface="Lucida Console"/>
              </a:rPr>
              <a:t>{</a:t>
            </a:r>
            <a:br>
              <a:rPr sz="1600"/>
            </a:br>
            <a:r>
              <a:rPr b="1" lang="de-DE" sz="1600" spc="-1" strike="noStrike">
                <a:solidFill>
                  <a:srgbClr val="a50021"/>
                </a:solidFill>
                <a:latin typeface="Lucida Console"/>
              </a:rPr>
              <a:t>        </a:t>
            </a:r>
            <a:r>
              <a:rPr b="1" lang="en-GB" sz="1600" spc="-1" strike="noStrike">
                <a:solidFill>
                  <a:srgbClr val="a50021"/>
                </a:solidFill>
                <a:latin typeface="Lucida Console"/>
              </a:rPr>
              <a:t>Console.WriteLine(o);</a:t>
            </a:r>
            <a:r>
              <a:rPr b="1" lang="de-DE" sz="1600" spc="-1" strike="noStrike">
                <a:solidFill>
                  <a:srgbClr val="a50021"/>
                </a:solidFill>
                <a:latin typeface="Lucida Console"/>
              </a:rPr>
              <a:t> </a:t>
            </a:r>
            <a:r>
              <a:rPr b="1" lang="en-GB" sz="1600" spc="-1" strike="noStrike">
                <a:solidFill>
                  <a:srgbClr val="a50021"/>
                </a:solidFill>
                <a:latin typeface="Lucida Console"/>
              </a:rPr>
              <a:t>}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return _nextSink.SyncProcessMessage(reqMsg)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ublic IMessageCtrl </a:t>
            </a:r>
            <a:r>
              <a:rPr b="1" lang="en-GB" sz="1600" spc="-1" strike="noStrike">
                <a:solidFill>
                  <a:srgbClr val="0066ff"/>
                </a:solidFill>
                <a:latin typeface="Lucida Console"/>
              </a:rPr>
              <a:t>AsyncProcessMessage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(IMessage reqMsg,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                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IMessageSink reply){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   f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oreach( object o in reqMsg.Properties){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Console.WriteLine(o);</a:t>
            </a: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return _nextSink.AsyncProcessMessage(reqMsg, reply)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public IMessageSink </a:t>
            </a:r>
            <a:r>
              <a:rPr b="1" lang="en-GB" sz="1600" spc="-1" strike="noStrike">
                <a:solidFill>
                  <a:srgbClr val="0066ff"/>
                </a:solidFill>
                <a:latin typeface="Lucida Console"/>
              </a:rPr>
              <a:t>NextSink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{</a:t>
            </a: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get {return _nextSink;</a:t>
            </a: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"/>
          <p:cNvSpPr/>
          <p:nvPr/>
        </p:nvSpPr>
        <p:spPr>
          <a:xfrm>
            <a:off x="7643880" y="1571760"/>
            <a:ext cx="1218960" cy="1447560"/>
          </a:xfrm>
          <a:prstGeom prst="wedgeRectCallout">
            <a:avLst>
              <a:gd name="adj1" fmla="val -308333"/>
              <a:gd name="adj2" fmla="val 124453"/>
            </a:avLst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mps content of IMessage for each cal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"/>
          <p:cNvSpPr/>
          <p:nvPr/>
        </p:nvSpPr>
        <p:spPr>
          <a:xfrm>
            <a:off x="7620120" y="3276720"/>
            <a:ext cx="1218960" cy="1447560"/>
          </a:xfrm>
          <a:prstGeom prst="wedgeRectCallout">
            <a:avLst>
              <a:gd name="adj1" fmla="val -377995"/>
              <a:gd name="adj2" fmla="val 30263"/>
            </a:avLst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xt sink receives control thereaft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Summary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474560"/>
            <a:ext cx="7321680" cy="48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NET Remoting is open-standards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.. supporting SOAP, XML and HT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rastructure is extensible at eve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.. and useable on every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NET Remoting Contexts build on the COM+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.. but make contexts available for your exten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driven behaviors can be built on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.. to separate plumbing from business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NET Remoting is configurable at installa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.. and on an application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Questions?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  <a:ea typeface="Times New Roman"/>
              </a:rPr>
              <a:t>What’s wrong with that?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474920"/>
            <a:ext cx="7321680" cy="497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OM protocol is binary and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unting difficult to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source of memory leaks for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ributed operation require "pinging" cl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ling is non-ext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y is difficult to manage; registration clum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ion paradigm has component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 to locate and connect active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oriented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35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work well on the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3200400"/>
            <a:ext cx="2133720" cy="114300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ebService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vid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600200"/>
            <a:ext cx="2133720" cy="114300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rading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1600200"/>
            <a:ext cx="1905120" cy="121932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.NET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uilding Block Services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(“Hailstorm“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  <a:ea typeface="Times New Roman"/>
              </a:rPr>
              <a:t>.</a:t>
            </a:r>
            <a:r>
              <a:rPr b="1" lang="en-US" sz="4000" spc="-1" strike="noStrike">
                <a:solidFill>
                  <a:srgbClr val="0066ff"/>
                </a:solidFill>
                <a:latin typeface="Arial Narrow"/>
                <a:ea typeface="Arial"/>
              </a:rPr>
              <a:t>NET Remoting Core Concept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4572000" cy="4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Federated Service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49400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5" name="" descr="Passport H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1523880"/>
            <a:ext cx="1295280" cy="40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Microsoft bCentra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1981080"/>
            <a:ext cx="1295280" cy="49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228600" y="3124080"/>
            <a:ext cx="1295280" cy="381240"/>
          </a:xfrm>
          <a:prstGeom prst="flowChart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3581280"/>
            <a:ext cx="1295280" cy="381240"/>
          </a:xfrm>
          <a:prstGeom prst="flowChart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4038480"/>
            <a:ext cx="1295280" cy="381240"/>
          </a:xfrm>
          <a:prstGeom prst="flowChart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4952880"/>
            <a:ext cx="1904760" cy="121932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.NET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nterprise Serv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5257800"/>
            <a:ext cx="1447920" cy="609480"/>
          </a:xfrm>
          <a:prstGeom prst="flowChart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zTalk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4572000"/>
            <a:ext cx="1447920" cy="609480"/>
          </a:xfrm>
          <a:prstGeom prst="flowChart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5943600"/>
            <a:ext cx="1447920" cy="609480"/>
          </a:xfrm>
          <a:prstGeom prst="flowChart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chang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bStorag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4" name="" descr="">
            <a:hlinkClick r:id="rId5"/>
          </p:cNvPr>
          <p:cNvPicPr/>
          <p:nvPr/>
        </p:nvPicPr>
        <p:blipFill>
          <a:blip r:embed="rId6"/>
          <a:srcRect l="0" t="0" r="57272" b="0"/>
          <a:stretch/>
        </p:blipFill>
        <p:spPr>
          <a:xfrm>
            <a:off x="6934320" y="2583000"/>
            <a:ext cx="1295280" cy="38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Cloud"/>
          <p:cNvSpPr/>
          <p:nvPr/>
        </p:nvSpPr>
        <p:spPr>
          <a:xfrm rot="16200000">
            <a:off x="2590920" y="2362320"/>
            <a:ext cx="3504960" cy="3047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69696"/>
                </a:solidFill>
                <a:latin typeface="Arial"/>
              </a:rPr>
              <a:t>Open Standards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69696"/>
                </a:solidFill>
                <a:latin typeface="Arial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69696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69696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69696"/>
                </a:solidFill>
                <a:latin typeface="Arial"/>
              </a:rPr>
              <a:t>SMTP</a:t>
            </a:r>
            <a:br>
              <a:rPr sz="2000"/>
            </a:br>
            <a:r>
              <a:rPr b="0" lang="de-DE" sz="2000" spc="-1" strike="noStrike">
                <a:solidFill>
                  <a:srgbClr val="969696"/>
                </a:solidFill>
                <a:latin typeface="Arial"/>
              </a:rPr>
              <a:t>SOA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3657600"/>
            <a:ext cx="3505320" cy="2666880"/>
          </a:xfrm>
          <a:prstGeom prst="flowChartProcess">
            <a:avLst/>
          </a:prstGeom>
          <a:solidFill>
            <a:srgbClr val="618ffd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5181480"/>
            <a:ext cx="1523880" cy="76212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ccounting Organis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4343400"/>
            <a:ext cx="1523880" cy="76212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ales Procure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5181480"/>
            <a:ext cx="1600200" cy="76212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Knowledge Manage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4343400"/>
            <a:ext cx="1600200" cy="76212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ebsit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523880"/>
            <a:ext cx="1295280" cy="381240"/>
          </a:xfrm>
          <a:prstGeom prst="flowChart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981080"/>
            <a:ext cx="1295280" cy="381240"/>
          </a:xfrm>
          <a:prstGeom prst="flowChart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DIFAC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438280"/>
            <a:ext cx="1295280" cy="381240"/>
          </a:xfrm>
          <a:prstGeom prst="flowChart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1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4" name=""/>
          <p:cNvCxnSpPr>
            <a:stCxn id="125" idx="0"/>
            <a:endCxn id="126" idx="2"/>
          </p:cNvCxnSpPr>
          <p:nvPr/>
        </p:nvCxnSpPr>
        <p:spPr>
          <a:xfrm flipV="1">
            <a:off x="7162560" y="2513880"/>
            <a:ext cx="1080" cy="2896200"/>
          </a:xfrm>
          <a:prstGeom prst="straightConnector1">
            <a:avLst/>
          </a:prstGeom>
          <a:ln w="57240">
            <a:solidFill>
              <a:srgbClr val="a50021"/>
            </a:solidFill>
            <a:miter/>
            <a:head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6591240" y="2895480"/>
            <a:ext cx="1143000" cy="2057400"/>
          </a:xfrm>
          <a:prstGeom prst="flowChartAlternate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</a:rPr>
              <a:t>Messages – RPC is not all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1600200"/>
            <a:ext cx="1828800" cy="91440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609480" cy="403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66680" y="5410080"/>
            <a:ext cx="1828800" cy="91440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1600200"/>
            <a:ext cx="1828800" cy="91440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5410080"/>
            <a:ext cx="1828800" cy="914400"/>
          </a:xfrm>
          <a:prstGeom prst="flowChartProcess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609840" cy="403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58000" y="3962520"/>
            <a:ext cx="609480" cy="40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934320" y="4114800"/>
            <a:ext cx="609480" cy="403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7010280" y="4267080"/>
            <a:ext cx="609840" cy="403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7086600" y="4419720"/>
            <a:ext cx="609480" cy="403200"/>
          </a:xfrm>
          <a:prstGeom prst="rect">
            <a:avLst/>
          </a:prstGeom>
          <a:ln w="0">
            <a:noFill/>
          </a:ln>
        </p:spPr>
      </p:pic>
      <p:cxnSp>
        <p:nvCxnSpPr>
          <p:cNvPr id="137" name=""/>
          <p:cNvCxnSpPr>
            <a:stCxn id="131" idx="0"/>
            <a:endCxn id="129" idx="2"/>
          </p:cNvCxnSpPr>
          <p:nvPr/>
        </p:nvCxnSpPr>
        <p:spPr>
          <a:xfrm flipV="1">
            <a:off x="1980720" y="2513880"/>
            <a:ext cx="1080" cy="2896200"/>
          </a:xfrm>
          <a:prstGeom prst="straightConnector1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</p:cxnSp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1676520" y="3787920"/>
            <a:ext cx="609480" cy="403200"/>
          </a:xfrm>
          <a:prstGeom prst="rect">
            <a:avLst/>
          </a:prstGeom>
          <a:ln w="0">
            <a:noFill/>
          </a:ln>
        </p:spPr>
      </p:pic>
      <p:cxnSp>
        <p:nvCxnSpPr>
          <p:cNvPr id="139" name=""/>
          <p:cNvCxnSpPr/>
          <p:nvPr/>
        </p:nvCxnSpPr>
        <p:spPr>
          <a:xfrm flipH="1">
            <a:off x="2895120" y="5638320"/>
            <a:ext cx="3353760" cy="1080"/>
          </a:xfrm>
          <a:prstGeom prst="straightConnector1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40" name=""/>
          <p:cNvCxnSpPr/>
          <p:nvPr/>
        </p:nvCxnSpPr>
        <p:spPr>
          <a:xfrm flipH="1">
            <a:off x="2895120" y="6095520"/>
            <a:ext cx="3353760" cy="1080"/>
          </a:xfrm>
          <a:prstGeom prst="straightConnector1">
            <a:avLst/>
          </a:prstGeom>
          <a:ln w="57240">
            <a:solidFill>
              <a:srgbClr val="a50021"/>
            </a:solidFill>
            <a:miter/>
            <a:headEnd len="med" type="triangle" w="med"/>
          </a:ln>
        </p:spPr>
      </p:cxnSp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4267080" y="5867280"/>
            <a:ext cx="609840" cy="403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4267080" y="5410080"/>
            <a:ext cx="609840" cy="403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74320" y="472428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directional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thod cal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2366640" y="3625920"/>
            <a:ext cx="15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idirectional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thod cal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34290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ue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exchang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46" name=""/>
          <p:cNvCxnSpPr/>
          <p:nvPr/>
        </p:nvCxnSpPr>
        <p:spPr>
          <a:xfrm flipH="1">
            <a:off x="2895120" y="1828440"/>
            <a:ext cx="3353760" cy="1080"/>
          </a:xfrm>
          <a:prstGeom prst="straightConnector1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 flipH="1">
            <a:off x="2895120" y="2285640"/>
            <a:ext cx="3353760" cy="1080"/>
          </a:xfrm>
          <a:prstGeom prst="straightConnector1">
            <a:avLst/>
          </a:prstGeom>
          <a:ln w="57240">
            <a:solidFill>
              <a:srgbClr val="a50021"/>
            </a:solidFill>
            <a:miter/>
            <a:headEnd len="med" type="triangle" w="med"/>
          </a:ln>
        </p:spPr>
      </p:cxnSp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4267080" y="2057400"/>
            <a:ext cx="609840" cy="403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1"/>
          <a:stretch/>
        </p:blipFill>
        <p:spPr>
          <a:xfrm>
            <a:off x="4267080" y="1600200"/>
            <a:ext cx="609840" cy="403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493080" y="914400"/>
            <a:ext cx="21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directional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exchang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88840" y="295200"/>
            <a:ext cx="7724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 Narrow"/>
                <a:ea typeface="Times New Roman"/>
              </a:rPr>
              <a:t>Application Domains</a:t>
            </a:r>
            <a:endParaRPr b="1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474920"/>
            <a:ext cx="7321680" cy="97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d execution space fo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8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of OS concept of thread,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2895480"/>
            <a:ext cx="4724280" cy="3276720"/>
          </a:xfrm>
          <a:prstGeom prst="roundRect">
            <a:avLst>
              <a:gd name="adj" fmla="val 16667"/>
            </a:avLst>
          </a:prstGeom>
          <a:solidFill>
            <a:srgbClr val="618ffd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2819520"/>
            <a:ext cx="2666880" cy="327636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3276360"/>
              <a:gd name="textAreaBottom" fmla="*/ 3146400 h 3276360"/>
            </a:gdLst>
            <a:ahLst/>
            <a:rect l="textAreaLeft" t="textAreaTop" r="textAreaRight" b="textAreaBottom"/>
            <a:pathLst>
              <a:path w="21600" h="26536">
                <a:moveTo>
                  <a:pt x="3600" y="0"/>
                </a:moveTo>
                <a:arcTo wR="3600" hR="3600" stAng="16200000" swAng="-5400000"/>
                <a:lnTo>
                  <a:pt x="0" y="22936"/>
                </a:lnTo>
                <a:arcTo wR="3600" hR="3600" stAng="10800000" swAng="-5400000"/>
                <a:lnTo>
                  <a:pt x="18000" y="265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18ffd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3429000"/>
            <a:ext cx="1905120" cy="220968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ppDomai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5715000" y="3429000"/>
            <a:ext cx="1905120" cy="213372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ppDomai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429000"/>
            <a:ext cx="1905120" cy="220968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ppDomai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962520"/>
            <a:ext cx="838080" cy="60948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3505320" y="3962520"/>
            <a:ext cx="838080" cy="60948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4724280"/>
            <a:ext cx="838080" cy="60984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4876920"/>
            <a:ext cx="838080" cy="60948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876920"/>
            <a:ext cx="838440" cy="609480"/>
          </a:xfrm>
          <a:prstGeom prst="flowChart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63" name=""/>
          <p:cNvCxnSpPr>
            <a:stCxn id="158" idx="1"/>
            <a:endCxn id="160" idx="1"/>
          </p:cNvCxnSpPr>
          <p:nvPr/>
        </p:nvCxnSpPr>
        <p:spPr>
          <a:xfrm flipH="1" flipV="1" rot="10800000">
            <a:off x="1342080" y="4266000"/>
            <a:ext cx="229320" cy="762840"/>
          </a:xfrm>
          <a:prstGeom prst="curvedConnector5">
            <a:avLst>
              <a:gd name="adj1" fmla="val -87421"/>
              <a:gd name="adj2" fmla="val 50000"/>
              <a:gd name="adj3" fmla="val -87421"/>
            </a:avLst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64" name=""/>
          <p:cNvCxnSpPr>
            <a:stCxn id="159" idx="3"/>
            <a:endCxn id="162" idx="1"/>
          </p:cNvCxnSpPr>
          <p:nvPr/>
        </p:nvCxnSpPr>
        <p:spPr>
          <a:xfrm flipH="1">
            <a:off x="3552120" y="4267080"/>
            <a:ext cx="819720" cy="915120"/>
          </a:xfrm>
          <a:prstGeom prst="curvedConnector5">
            <a:avLst>
              <a:gd name="adj1" fmla="val -24384"/>
              <a:gd name="adj2" fmla="val 24990"/>
              <a:gd name="adj3" fmla="val -24384"/>
            </a:avLst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65" name=""/>
          <p:cNvCxnSpPr>
            <a:stCxn id="158" idx="3"/>
            <a:endCxn id="159" idx="1"/>
          </p:cNvCxnSpPr>
          <p:nvPr/>
        </p:nvCxnSpPr>
        <p:spPr>
          <a:xfrm>
            <a:off x="2238120" y="4266720"/>
            <a:ext cx="1238760" cy="1080"/>
          </a:xfrm>
          <a:prstGeom prst="bentConnector2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641680" y="4114800"/>
            <a:ext cx="457200" cy="303120"/>
          </a:xfrm>
          <a:prstGeom prst="rect">
            <a:avLst/>
          </a:prstGeom>
          <a:ln w="0">
            <a:noFill/>
          </a:ln>
        </p:spPr>
      </p:pic>
      <p:cxnSp>
        <p:nvCxnSpPr>
          <p:cNvPr id="167" name=""/>
          <p:cNvCxnSpPr>
            <a:stCxn id="162" idx="3"/>
            <a:endCxn id="161" idx="1"/>
          </p:cNvCxnSpPr>
          <p:nvPr/>
        </p:nvCxnSpPr>
        <p:spPr>
          <a:xfrm>
            <a:off x="4448160" y="5181120"/>
            <a:ext cx="1696320" cy="1080"/>
          </a:xfrm>
          <a:prstGeom prst="bentConnector2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105520" y="5029200"/>
            <a:ext cx="457200" cy="30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2T16:37:16Z</dcterms:created>
  <dc:creator>Clemens F. Vasters</dc:creator>
  <dc:description>.net Developer Tools Readiness Kit
Module "Context and Remoting"
by Clemens F. Vasters
Final touchup by Udo Riedel.</dc:description>
  <dc:language>en-US</dc:language>
  <cp:lastModifiedBy>Clemens F. Vasters</cp:lastModifiedBy>
  <dcterms:modified xsi:type="dcterms:W3CDTF">2001-07-10T08:59:08Z</dcterms:modified>
  <cp:revision>156</cp:revision>
  <dc:subject>.net Developer Tools Readiness Kit</dc:subject>
  <dc:title>Context and Remoting</dc:title>
</cp:coreProperties>
</file>